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7.pct" ContentType="image/x-pict"/>
  <Override PartName="/ppt/media/image26.png" ContentType="image/png"/>
  <Override PartName="/ppt/media/image24.pct" ContentType="image/x-pict"/>
  <Override PartName="/ppt/media/image28.pct" ContentType="image/x-pict"/>
  <Override PartName="/ppt/media/image8.pct" ContentType="image/x-pict"/>
  <Override PartName="/ppt/media/image10.png" ContentType="image/png"/>
  <Override PartName="/ppt/media/image11.png" ContentType="image/png"/>
  <Override PartName="/ppt/media/image34.pct" ContentType="image/x-pict"/>
  <Override PartName="/ppt/media/image4.jpeg" ContentType="image/jpeg"/>
  <Override PartName="/ppt/media/image25.png" ContentType="image/png"/>
  <Override PartName="/ppt/media/image5.jpeg" ContentType="image/jpeg"/>
  <Override PartName="/ppt/media/image7.pct" ContentType="image/x-pict"/>
  <Override PartName="/ppt/media/image9.png" ContentType="image/png"/>
  <Override PartName="/ppt/media/image30.pct" ContentType="image/x-pict"/>
  <Override PartName="/ppt/media/image31.pct" ContentType="image/x-pict"/>
  <Override PartName="/ppt/media/image13.png" ContentType="image/png"/>
  <Override PartName="/ppt/media/image33.pct" ContentType="image/x-pict"/>
  <Override PartName="/ppt/media/image6.png" ContentType="image/png"/>
  <Override PartName="/ppt/media/image3.pct" ContentType="image/x-pict"/>
  <Override PartName="/ppt/media/image2.pct" ContentType="image/x-pict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ct" ContentType="image/x-pict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8C5-07FC-4D8C-993C-A9E27913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A74-C31B-44D2-9D3D-DBD559E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478-A027-47DC-98E6-967829B1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4CE-AA02-4882-A457-7105E9D7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0A7-D25A-43B6-8EF0-CAADEC7D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C52-BA48-4AD5-BB0B-FE817A4F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FEB-D85B-4A93-A031-6D444783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52E-EB86-449C-96D0-249C67B4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19F-40B5-45C3-B7F4-F06FFD52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9F4-6107-4942-8FA2-8A332A2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D6C-9BC2-41EE-93D5-69763DA0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1B8-DF8C-4D0E-8F6C-BA2FFA00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EB91A9E-0F72-4125-8248-9CDCC750E9B7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38800" y="672912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1639800"/>
            <a:ext cx="6858000" cy="4394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3"/>
                </a:solidFill>
                <a:latin typeface="Comic Sans MS"/>
              </a:rPr>
              <a:t>Le tracce dell’evoluzion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3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Prove della tetraplod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15400" y="1705320"/>
            <a:ext cx="68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iante angiosperme sono poliplo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2573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rove sono perse per l’insorgenza di riarrangiamenti intragenom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74880" y="388728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i vertebrati si ipotizza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u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icli di duplicazioni genomica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. elegans, Drosophila e Ciona intestinal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nno 15.000-20.000 geni......... 1/4 di quelli dei mammif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36800" y="5651280"/>
            <a:ext cx="85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i raggrupamenti genici sembrano essere quadruplicati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35000" y="658656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I H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78360" y="1328760"/>
            <a:ext cx="72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LOGIA, ORTOLOGIA ED OM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1993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etta somiglianza di segmenti cromosomici o di  sequenze di DNA NON ALLELICI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l’interno di una spe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38920" y="3517560"/>
            <a:ext cx="746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RTO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etta somiglianza di seg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mosomici o di sequenze di DN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pparten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specie diverse 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RY e l’ortologo murino S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52239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MO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rmine usato per indicare relazioni tra segmenti cromosomici allelici, ora il termine  e’ spesso usato anche in senso lato...da non confondersi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MILA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Un po’ di termin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0034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0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669000" y="3141720"/>
            <a:ext cx="15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3000" y="678168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55600" y="61675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08160" y="482904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25920" y="3719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05920" y="4656240"/>
            <a:ext cx="609480" cy="2361960"/>
          </a:xfrm>
          <a:custGeom>
            <a:avLst/>
            <a:gdLst>
              <a:gd name="textAreaLeft" fmla="*/ 0 w 609480"/>
              <a:gd name="textAreaRight" fmla="*/ 219960 w 6094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8840" y="947520"/>
            <a:ext cx="94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omeotici (HOX) sono coinvolti nella specificazione dell’asse antero-posteriore durante le prime fasi dello svil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05040" y="2666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86280" y="2577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51320" y="2658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19440" y="25909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84480" y="2658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52960" y="25909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18000" y="2666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79840" y="31161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13360" y="31161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1480" y="30481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46880" y="3124080"/>
            <a:ext cx="244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3129120"/>
            <a:ext cx="15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42080" y="3060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86600" y="312912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62920" y="3060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31200" y="313704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8040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3132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90960" y="3805200"/>
            <a:ext cx="17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14800" y="37180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71920" y="37893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040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05440" y="37893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73560" y="3720960"/>
            <a:ext cx="38124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38960" y="3797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292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5880" y="3801960"/>
            <a:ext cx="59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37320" y="37339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81840" y="380196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30880" y="37339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96280" y="3809880"/>
            <a:ext cx="428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4872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97920" y="38052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60520" y="379872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89120" y="3710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33640" y="3790800"/>
            <a:ext cx="136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463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11360" y="379080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035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63880" y="3798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607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3160" y="3801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67120" y="48960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06880" y="4808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64000" y="4879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3248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97520" y="4879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65640" y="48117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30680" y="4888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70680" y="489276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21480" y="48243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66000" y="489276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15040" y="48243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80440" y="4900680"/>
            <a:ext cx="368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83288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182080" y="48960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76440" y="4894200"/>
            <a:ext cx="585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384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03440" y="489420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56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55960" y="49021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528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05240" y="49053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380196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21240" y="547992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86280" y="5565600"/>
            <a:ext cx="17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0120" y="54784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67240" y="5549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35360" y="54817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00760" y="5549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6888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33920" y="5557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1824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75360" y="5562720"/>
            <a:ext cx="554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13560" y="54943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58080" y="556272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07120" y="54943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472520" y="5570640"/>
            <a:ext cx="376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2496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174160" y="55656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59200" y="5559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56040" y="54831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08480" y="5562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78400" y="617688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43440" y="6246720"/>
            <a:ext cx="677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92520" y="617868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7920" y="6246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26040" y="61786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91080" y="6254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75400" y="61786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2520" y="6259680"/>
            <a:ext cx="2425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1000" y="6248520"/>
            <a:ext cx="18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41600" y="6167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86120" y="6248520"/>
            <a:ext cx="136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88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63840" y="624852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560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16360" y="6256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132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65640" y="625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1280" y="67755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49560" y="6861240"/>
            <a:ext cx="1698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38680" y="67770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00840" y="6858000"/>
            <a:ext cx="628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29400" y="678960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81840" y="6858000"/>
            <a:ext cx="866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677700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197920" y="686124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08040" y="6854760"/>
            <a:ext cx="273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44480" y="6765840"/>
            <a:ext cx="38124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89000" y="6846840"/>
            <a:ext cx="136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016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67080" y="6846840"/>
            <a:ext cx="91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588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19240" y="6854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160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68520" y="6858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9440" y="491328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625464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6880" y="686592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4480" y="30607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45120" y="3124080"/>
            <a:ext cx="31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229600" y="2438280"/>
            <a:ext cx="533520" cy="914400"/>
          </a:xfrm>
          <a:custGeom>
            <a:avLst/>
            <a:gdLst>
              <a:gd name="textAreaLeft" fmla="*/ 0 w 533520"/>
              <a:gd name="textAreaRight" fmla="*/ 192600 w 5335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371440" y="246168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791560" y="5597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471520" y="353988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fio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3840" y="230472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46000" y="23108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56920" y="23047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25840" y="276804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13080" y="27619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47680" y="276192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19080" y="27619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19760" y="27619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52480" y="27619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62760" y="2761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4400" y="3428640"/>
            <a:ext cx="11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         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96520" y="3434760"/>
            <a:ext cx="56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     10     9       8      7      6       5       4              3      2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6832440" y="2768040"/>
            <a:ext cx="228600" cy="1092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6972120" y="313668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409920"/>
            <a:ext cx="152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00480" y="4520880"/>
            <a:ext cx="64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-13       A-11  A-10 A-9           A-7   A-6  A-5   A-4         A-3   A-2     A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52600" y="5203440"/>
            <a:ext cx="480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-9   B-8   B-7   B-6   B-5    B-4         B-3   B-2      B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7360" y="5892480"/>
            <a:ext cx="48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-13 C-12  C-11 C-10 C-9   C-8           C-6   C-5    C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23000" y="6501960"/>
            <a:ext cx="67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-13 D-12 D-11 D-10 D-9   D-8                           D-4          D-3               D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37120" y="46857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616600" y="528264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616240" y="60447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17680" y="662904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2133720"/>
            <a:ext cx="2971800" cy="5105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2133720"/>
            <a:ext cx="1447920" cy="5105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2133720"/>
            <a:ext cx="457200" cy="426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38680" y="2133720"/>
            <a:ext cx="457200" cy="5029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03840" y="3429000"/>
            <a:ext cx="457200" cy="3733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86600" y="2133720"/>
            <a:ext cx="457200" cy="3733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848720" y="2133720"/>
            <a:ext cx="457200" cy="5029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74600" y="533520"/>
            <a:ext cx="3830760" cy="482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I geni H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5486400" y="346716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VERSIFICAZIONE DEI GENI E DEI CROM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8600" y="6582960"/>
            <a:ext cx="203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TRA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709400" y="658296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92199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del genoma e tetraploid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0560" y="481788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4280" y="427968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28600" y="2590920"/>
            <a:ext cx="768240" cy="1750320"/>
            <a:chOff x="228600" y="2590920"/>
            <a:chExt cx="768240" cy="1750320"/>
          </a:xfrm>
        </p:grpSpPr>
        <p:grpSp>
          <p:nvGrpSpPr>
            <p:cNvPr id="594" name=""/>
            <p:cNvGrpSpPr/>
            <p:nvPr/>
          </p:nvGrpSpPr>
          <p:grpSpPr>
            <a:xfrm>
              <a:off x="228600" y="2601720"/>
              <a:ext cx="307440" cy="1739520"/>
              <a:chOff x="228600" y="2601720"/>
              <a:chExt cx="307440" cy="1739520"/>
            </a:xfrm>
          </p:grpSpPr>
          <p:sp>
            <p:nvSpPr>
              <p:cNvPr id="595" name=""/>
              <p:cNvSpPr/>
              <p:nvPr/>
            </p:nvSpPr>
            <p:spPr>
              <a:xfrm>
                <a:off x="228600" y="339660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76480" y="32925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8600" y="26017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689040" y="2590920"/>
              <a:ext cx="307440" cy="1739520"/>
              <a:chOff x="689040" y="2590920"/>
              <a:chExt cx="307440" cy="1739520"/>
            </a:xfrm>
          </p:grpSpPr>
          <p:sp>
            <p:nvSpPr>
              <p:cNvPr id="599" name=""/>
              <p:cNvSpPr/>
              <p:nvPr/>
            </p:nvSpPr>
            <p:spPr>
              <a:xfrm>
                <a:off x="689040" y="338616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6920" y="32817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9040" y="25909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28600" y="2884320"/>
              <a:ext cx="768240" cy="76320"/>
              <a:chOff x="228600" y="2884320"/>
              <a:chExt cx="768240" cy="76320"/>
            </a:xfrm>
          </p:grpSpPr>
          <p:sp>
            <p:nvSpPr>
              <p:cNvPr id="603" name=""/>
              <p:cNvSpPr/>
              <p:nvPr/>
            </p:nvSpPr>
            <p:spPr>
              <a:xfrm>
                <a:off x="228600" y="2884320"/>
                <a:ext cx="30492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92280" y="2884320"/>
                <a:ext cx="304560" cy="76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228600" y="3875040"/>
              <a:ext cx="30492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2280" y="3875040"/>
              <a:ext cx="30456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" y="4027320"/>
              <a:ext cx="30492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2280" y="4027320"/>
              <a:ext cx="304560" cy="7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64080" y="2761920"/>
            <a:ext cx="351360" cy="1559160"/>
            <a:chOff x="964080" y="2761920"/>
            <a:chExt cx="351360" cy="1559160"/>
          </a:xfrm>
        </p:grpSpPr>
        <p:sp>
          <p:nvSpPr>
            <p:cNvPr id="610" name=""/>
            <p:cNvSpPr/>
            <p:nvPr/>
          </p:nvSpPr>
          <p:spPr>
            <a:xfrm>
              <a:off x="971640" y="27619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64080" y="36046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65520" y="3922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062240" y="1199880"/>
            <a:ext cx="1182600" cy="4895280"/>
            <a:chOff x="4062240" y="1199880"/>
            <a:chExt cx="1182600" cy="4895280"/>
          </a:xfrm>
        </p:grpSpPr>
        <p:sp>
          <p:nvSpPr>
            <p:cNvPr id="614" name=""/>
            <p:cNvSpPr/>
            <p:nvPr/>
          </p:nvSpPr>
          <p:spPr>
            <a:xfrm>
              <a:off x="4062240" y="119988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62240" y="403200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191120" y="1523880"/>
              <a:ext cx="768240" cy="1750320"/>
              <a:chOff x="4191120" y="1523880"/>
              <a:chExt cx="768240" cy="175032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4191120" y="1534680"/>
                <a:ext cx="307440" cy="1739520"/>
                <a:chOff x="4191120" y="1534680"/>
                <a:chExt cx="307440" cy="17395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191120" y="232956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239000" y="22255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191120" y="15346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651560" y="1523880"/>
                <a:ext cx="307440" cy="1739520"/>
                <a:chOff x="4651560" y="1523880"/>
                <a:chExt cx="307440" cy="17395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65156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69944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65156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4191120" y="1817280"/>
                <a:ext cx="768240" cy="76320"/>
                <a:chOff x="4191120" y="1817280"/>
                <a:chExt cx="768240" cy="763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4191120" y="1817280"/>
                  <a:ext cx="304920" cy="763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654800" y="1817280"/>
                  <a:ext cx="304560" cy="7632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4191120" y="2808000"/>
                <a:ext cx="304920" cy="763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654800" y="2808000"/>
                <a:ext cx="304560" cy="76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191120" y="2960280"/>
                <a:ext cx="304920" cy="76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54800" y="2960280"/>
                <a:ext cx="304560" cy="763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203720" y="4344840"/>
              <a:ext cx="768240" cy="1750320"/>
              <a:chOff x="4203720" y="4344840"/>
              <a:chExt cx="768240" cy="17503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4203720" y="4355640"/>
                <a:ext cx="307440" cy="1739520"/>
                <a:chOff x="4203720" y="4355640"/>
                <a:chExt cx="307440" cy="17395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203720" y="51505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251600" y="50464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203720" y="43556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664160" y="4344840"/>
                <a:ext cx="307440" cy="1739520"/>
                <a:chOff x="4664160" y="4344840"/>
                <a:chExt cx="307440" cy="1739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4664160" y="514008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712040" y="50356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664160" y="43448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4203720" y="4638240"/>
                <a:ext cx="768240" cy="76320"/>
                <a:chOff x="4203720" y="4638240"/>
                <a:chExt cx="768240" cy="763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203720" y="4638240"/>
                  <a:ext cx="304920" cy="7632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667400" y="4638240"/>
                  <a:ext cx="304560" cy="7632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203720" y="5628960"/>
                <a:ext cx="304920" cy="763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67400" y="5628960"/>
                <a:ext cx="30456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3720" y="5781240"/>
                <a:ext cx="304920" cy="76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67400" y="5781240"/>
                <a:ext cx="30456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4893120" y="1693440"/>
              <a:ext cx="351720" cy="1559160"/>
              <a:chOff x="4893120" y="1693440"/>
              <a:chExt cx="351720" cy="1559160"/>
            </a:xfrm>
          </p:grpSpPr>
          <p:sp>
            <p:nvSpPr>
              <p:cNvPr id="649" name=""/>
              <p:cNvSpPr/>
              <p:nvPr/>
            </p:nvSpPr>
            <p:spPr>
              <a:xfrm>
                <a:off x="4901040" y="16934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893120" y="2536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94560" y="2853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893120" y="4519080"/>
              <a:ext cx="351720" cy="1559160"/>
              <a:chOff x="4893120" y="4519080"/>
              <a:chExt cx="351720" cy="1559160"/>
            </a:xfrm>
          </p:grpSpPr>
          <p:sp>
            <p:nvSpPr>
              <p:cNvPr id="653" name=""/>
              <p:cNvSpPr/>
              <p:nvPr/>
            </p:nvSpPr>
            <p:spPr>
              <a:xfrm>
                <a:off x="4901040" y="45190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893120" y="53618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894560" y="5679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6061320" y="4344840"/>
            <a:ext cx="1334160" cy="2097360"/>
            <a:chOff x="6061320" y="4344840"/>
            <a:chExt cx="1334160" cy="2097360"/>
          </a:xfrm>
        </p:grpSpPr>
        <p:sp>
          <p:nvSpPr>
            <p:cNvPr id="657" name=""/>
            <p:cNvSpPr/>
            <p:nvPr/>
          </p:nvSpPr>
          <p:spPr>
            <a:xfrm>
              <a:off x="6061320" y="60433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6165720" y="4356000"/>
              <a:ext cx="307800" cy="1739520"/>
              <a:chOff x="6165720" y="4356000"/>
              <a:chExt cx="307800" cy="1739520"/>
            </a:xfrm>
          </p:grpSpPr>
          <p:sp>
            <p:nvSpPr>
              <p:cNvPr id="659" name=""/>
              <p:cNvSpPr/>
              <p:nvPr/>
            </p:nvSpPr>
            <p:spPr>
              <a:xfrm>
                <a:off x="6165720" y="5150880"/>
                <a:ext cx="30780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13600" y="504684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165720" y="435600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6626160" y="4344840"/>
              <a:ext cx="307800" cy="1739520"/>
              <a:chOff x="6626160" y="4344840"/>
              <a:chExt cx="307800" cy="1739520"/>
            </a:xfrm>
          </p:grpSpPr>
          <p:sp>
            <p:nvSpPr>
              <p:cNvPr id="663" name=""/>
              <p:cNvSpPr/>
              <p:nvPr/>
            </p:nvSpPr>
            <p:spPr>
              <a:xfrm>
                <a:off x="6626160" y="5140080"/>
                <a:ext cx="30780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674040" y="503568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626160" y="434484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65720" y="4638600"/>
              <a:ext cx="768240" cy="76320"/>
              <a:chOff x="6165720" y="4638600"/>
              <a:chExt cx="768240" cy="76320"/>
            </a:xfrm>
          </p:grpSpPr>
          <p:sp>
            <p:nvSpPr>
              <p:cNvPr id="667" name=""/>
              <p:cNvSpPr/>
              <p:nvPr/>
            </p:nvSpPr>
            <p:spPr>
              <a:xfrm>
                <a:off x="6165720" y="4638600"/>
                <a:ext cx="30492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4638600"/>
                <a:ext cx="304560" cy="763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6165720" y="5629320"/>
              <a:ext cx="30492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29400" y="5629320"/>
              <a:ext cx="304920" cy="76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65720" y="5781600"/>
              <a:ext cx="304920" cy="763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29400" y="5781600"/>
              <a:ext cx="304920" cy="763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88600" y="45190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68800" y="5362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95520" y="567972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8183520" y="1650960"/>
            <a:ext cx="1258560" cy="1649160"/>
            <a:chOff x="8183520" y="1650960"/>
            <a:chExt cx="1258560" cy="1649160"/>
          </a:xfrm>
        </p:grpSpPr>
        <p:grpSp>
          <p:nvGrpSpPr>
            <p:cNvPr id="677" name=""/>
            <p:cNvGrpSpPr/>
            <p:nvPr/>
          </p:nvGrpSpPr>
          <p:grpSpPr>
            <a:xfrm>
              <a:off x="8183520" y="1650960"/>
              <a:ext cx="1037880" cy="1649160"/>
              <a:chOff x="8183520" y="1650960"/>
              <a:chExt cx="1037880" cy="1649160"/>
            </a:xfrm>
          </p:grpSpPr>
          <p:sp>
            <p:nvSpPr>
              <p:cNvPr id="678" name=""/>
              <p:cNvSpPr/>
              <p:nvPr/>
            </p:nvSpPr>
            <p:spPr>
              <a:xfrm>
                <a:off x="8183520" y="2355480"/>
                <a:ext cx="30816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643960" y="2344680"/>
                <a:ext cx="30816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183520" y="180468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643960" y="179352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"/>
              <p:cNvGrpSpPr/>
              <p:nvPr/>
            </p:nvGrpSpPr>
            <p:grpSpPr>
              <a:xfrm>
                <a:off x="8183520" y="2087280"/>
                <a:ext cx="768240" cy="76320"/>
                <a:chOff x="8183520" y="2087280"/>
                <a:chExt cx="768240" cy="7632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8183520" y="2087280"/>
                  <a:ext cx="304920" cy="7632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647200" y="2087280"/>
                  <a:ext cx="304560" cy="76320"/>
                </a:xfrm>
                <a:prstGeom prst="rect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8183520" y="2833560"/>
                <a:ext cx="304920" cy="7596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47200" y="2833560"/>
                <a:ext cx="304920" cy="759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183520" y="2985840"/>
                <a:ext cx="304920" cy="76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647200" y="2985840"/>
                <a:ext cx="304920" cy="76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8231400" y="1650960"/>
                <a:ext cx="688680" cy="206280"/>
                <a:chOff x="8231400" y="1650960"/>
                <a:chExt cx="688680" cy="2062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8231400" y="1661760"/>
                  <a:ext cx="228600" cy="19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691480" y="1650960"/>
                  <a:ext cx="228600" cy="19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" name=""/>
              <p:cNvSpPr/>
              <p:nvPr/>
            </p:nvSpPr>
            <p:spPr>
              <a:xfrm>
                <a:off x="8874720" y="25678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76160" y="2885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8910720" y="1827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988240" y="1152000"/>
            <a:ext cx="1396440" cy="2122560"/>
            <a:chOff x="5988240" y="1152000"/>
            <a:chExt cx="1396440" cy="2122560"/>
          </a:xfrm>
        </p:grpSpPr>
        <p:sp>
          <p:nvSpPr>
            <p:cNvPr id="696" name=""/>
            <p:cNvSpPr/>
            <p:nvPr/>
          </p:nvSpPr>
          <p:spPr>
            <a:xfrm>
              <a:off x="5988240" y="11520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6122880" y="1523880"/>
              <a:ext cx="1261800" cy="1750680"/>
              <a:chOff x="6122880" y="1523880"/>
              <a:chExt cx="1261800" cy="1750680"/>
            </a:xfrm>
          </p:grpSpPr>
          <p:sp>
            <p:nvSpPr>
              <p:cNvPr id="698" name=""/>
              <p:cNvSpPr/>
              <p:nvPr/>
            </p:nvSpPr>
            <p:spPr>
              <a:xfrm>
                <a:off x="6853320" y="1558440"/>
                <a:ext cx="53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83920" y="2542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885000" y="2860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1" name=""/>
              <p:cNvGrpSpPr/>
              <p:nvPr/>
            </p:nvGrpSpPr>
            <p:grpSpPr>
              <a:xfrm>
                <a:off x="6122880" y="1535040"/>
                <a:ext cx="307440" cy="1739520"/>
                <a:chOff x="6122880" y="1535040"/>
                <a:chExt cx="307440" cy="17395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6122880" y="23299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170760" y="22258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122880" y="15350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6583320" y="1523880"/>
                <a:ext cx="307440" cy="1739520"/>
                <a:chOff x="6583320" y="1523880"/>
                <a:chExt cx="307440" cy="17395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58332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63120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58332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6122880" y="2808360"/>
                <a:ext cx="304920" cy="759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86560" y="2808360"/>
                <a:ext cx="304560" cy="7596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2880" y="2960640"/>
                <a:ext cx="304920" cy="76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86560" y="2960640"/>
                <a:ext cx="304560" cy="7632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6122880" y="1828800"/>
                <a:ext cx="768240" cy="76320"/>
                <a:chOff x="6122880" y="1828800"/>
                <a:chExt cx="768240" cy="763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6122880" y="1828800"/>
                  <a:ext cx="304920" cy="76320"/>
                </a:xfrm>
                <a:prstGeom prst="rect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586560" y="1828800"/>
                  <a:ext cx="304560" cy="76320"/>
                </a:xfrm>
                <a:prstGeom prst="rect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16" name=""/>
          <p:cNvGrpSpPr/>
          <p:nvPr/>
        </p:nvGrpSpPr>
        <p:grpSpPr>
          <a:xfrm>
            <a:off x="8042400" y="4343400"/>
            <a:ext cx="1334160" cy="2097000"/>
            <a:chOff x="8042400" y="4343400"/>
            <a:chExt cx="1334160" cy="2097000"/>
          </a:xfrm>
        </p:grpSpPr>
        <p:sp>
          <p:nvSpPr>
            <p:cNvPr id="717" name=""/>
            <p:cNvSpPr/>
            <p:nvPr/>
          </p:nvSpPr>
          <p:spPr>
            <a:xfrm>
              <a:off x="8042400" y="6041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8147160" y="4354560"/>
              <a:ext cx="307440" cy="1739520"/>
              <a:chOff x="8147160" y="4354560"/>
              <a:chExt cx="307440" cy="1739520"/>
            </a:xfrm>
          </p:grpSpPr>
          <p:sp>
            <p:nvSpPr>
              <p:cNvPr id="719" name=""/>
              <p:cNvSpPr/>
              <p:nvPr/>
            </p:nvSpPr>
            <p:spPr>
              <a:xfrm>
                <a:off x="8147160" y="514944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195040" y="504540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147160" y="435456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8607600" y="4343400"/>
              <a:ext cx="307440" cy="1739520"/>
              <a:chOff x="8607600" y="4343400"/>
              <a:chExt cx="307440" cy="1739520"/>
            </a:xfrm>
          </p:grpSpPr>
          <p:sp>
            <p:nvSpPr>
              <p:cNvPr id="723" name=""/>
              <p:cNvSpPr/>
              <p:nvPr/>
            </p:nvSpPr>
            <p:spPr>
              <a:xfrm>
                <a:off x="8607600" y="513864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655480" y="503424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607600" y="434340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8147160" y="4637160"/>
              <a:ext cx="768240" cy="75960"/>
              <a:chOff x="8147160" y="4637160"/>
              <a:chExt cx="768240" cy="75960"/>
            </a:xfrm>
          </p:grpSpPr>
          <p:sp>
            <p:nvSpPr>
              <p:cNvPr id="727" name=""/>
              <p:cNvSpPr/>
              <p:nvPr/>
            </p:nvSpPr>
            <p:spPr>
              <a:xfrm>
                <a:off x="8147160" y="4637160"/>
                <a:ext cx="304920" cy="759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610840" y="4637160"/>
                <a:ext cx="304560" cy="7596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8147160" y="5627520"/>
              <a:ext cx="304560" cy="763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610480" y="5627520"/>
              <a:ext cx="304920" cy="7632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147160" y="5780160"/>
              <a:ext cx="304560" cy="759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610480" y="5780160"/>
              <a:ext cx="304920" cy="7596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869680" y="45176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849880" y="536076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894160" y="5678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1447920" y="2057400"/>
            <a:ext cx="2514600" cy="266688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419720" y="36576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660240"/>
            <a:ext cx="941868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20a"/>
                </a:solidFill>
                <a:latin typeface="Comic Sans MS"/>
              </a:rPr>
              <a:t>Segmenti paraloghi dei cromosomi HSA12 e HSA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28640" y="228600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62320" y="2286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666880" y="22860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00200" y="54100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90920" y="3429000"/>
            <a:ext cx="75960" cy="121932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71800" y="3429000"/>
            <a:ext cx="763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05320" y="3429000"/>
            <a:ext cx="7596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65760" y="19951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U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81080" y="199512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41240" y="199512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Y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1724400" y="2858760"/>
            <a:ext cx="678960" cy="1408320"/>
            <a:chOff x="1724400" y="2858760"/>
            <a:chExt cx="678960" cy="1408320"/>
          </a:xfrm>
        </p:grpSpPr>
        <p:sp>
          <p:nvSpPr>
            <p:cNvPr id="750" name=""/>
            <p:cNvSpPr/>
            <p:nvPr/>
          </p:nvSpPr>
          <p:spPr>
            <a:xfrm>
              <a:off x="2057400" y="3505320"/>
              <a:ext cx="0" cy="76176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24400" y="2858760"/>
              <a:ext cx="678960" cy="6037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ERB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L2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WN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R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1905120" y="4625640"/>
            <a:ext cx="1600200" cy="839160"/>
          </a:xfrm>
          <a:prstGeom prst="rect">
            <a:avLst/>
          </a:prstGeom>
          <a:noFill/>
          <a:ln w="9360">
            <a:solidFill>
              <a:srgbClr val="fd0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raggruppamento della cheratina di tip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52960" y="56527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L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819520" y="2743200"/>
            <a:ext cx="533160" cy="685800"/>
          </a:xfrm>
          <a:prstGeom prst="rect">
            <a:avLst/>
          </a:prstGeom>
          <a:noFill/>
          <a:ln w="19080">
            <a:solidFill>
              <a:srgbClr val="11f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05320" y="2362320"/>
            <a:ext cx="13716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62080" y="6119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263080" y="6119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105520" y="12952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3725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931880" y="38239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U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924680" y="35812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705800" y="316908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Y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62720" y="4876920"/>
            <a:ext cx="7596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10080" y="4191120"/>
            <a:ext cx="533520" cy="685800"/>
          </a:xfrm>
          <a:prstGeom prst="rect">
            <a:avLst/>
          </a:prstGeom>
          <a:noFill/>
          <a:ln w="19080">
            <a:solidFill>
              <a:srgbClr val="11f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X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95880" y="4876920"/>
            <a:ext cx="7632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48240" y="5283360"/>
            <a:ext cx="13716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10280" y="4267080"/>
            <a:ext cx="76320" cy="121932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019920" y="3450600"/>
            <a:ext cx="1600200" cy="839160"/>
          </a:xfrm>
          <a:prstGeom prst="rect">
            <a:avLst/>
          </a:prstGeom>
          <a:noFill/>
          <a:ln w="9360">
            <a:solidFill>
              <a:srgbClr val="fd0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raggruppamento della cheratina di tip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848720" y="4876920"/>
            <a:ext cx="0" cy="9903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855920" y="4631400"/>
            <a:ext cx="76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RB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L1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N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52280" y="74520"/>
            <a:ext cx="9524880" cy="7256520"/>
            <a:chOff x="152280" y="74520"/>
            <a:chExt cx="9524880" cy="7256520"/>
          </a:xfrm>
        </p:grpSpPr>
        <p:pic>
          <p:nvPicPr>
            <p:cNvPr id="772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152280" y="74520"/>
              <a:ext cx="76320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028520" y="19188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78760" y="608040"/>
              <a:ext cx="8637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4511160" y="150840"/>
              <a:ext cx="516600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9360" y="70848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990720" y="3200400"/>
            <a:ext cx="457200" cy="2590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04840" y="3048120"/>
            <a:ext cx="228600" cy="22860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90720" y="2286000"/>
            <a:ext cx="45720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610480" y="4267080"/>
            <a:ext cx="457200" cy="1600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724960" y="4114800"/>
            <a:ext cx="228600" cy="22860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610480" y="3429000"/>
            <a:ext cx="457200" cy="779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78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152280" y="1958760"/>
            <a:ext cx="953136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licazioni subgenomiche dovut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AMBI INEGUALE TRA CROMOSOMI OMOLOGHI…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.TRA CROMATIDI FRATE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alla base della duplicazione sia de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 del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ita’ ripetute non codificant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osa oltre le duplicazioni genomic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162080" y="3817800"/>
            <a:ext cx="1378080" cy="19224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35080" y="4265640"/>
            <a:ext cx="1378080" cy="19224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35080" y="5535720"/>
            <a:ext cx="73008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65160" y="5535720"/>
            <a:ext cx="648000" cy="19188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54080" y="6508800"/>
            <a:ext cx="730440" cy="19188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784520" y="6508800"/>
            <a:ext cx="64764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40160" y="390204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513160" y="436248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76880" y="3765600"/>
            <a:ext cx="804600" cy="730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106960" y="3895560"/>
            <a:ext cx="3390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05520" y="4341960"/>
            <a:ext cx="3417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3160" y="562140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432160" y="6593040"/>
            <a:ext cx="21081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59080" y="3176640"/>
            <a:ext cx="568080" cy="64116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135080" y="2535120"/>
            <a:ext cx="1378080" cy="193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40160" y="2611440"/>
            <a:ext cx="21063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513160" y="3070080"/>
            <a:ext cx="21063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3090960"/>
            <a:ext cx="341784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35080" y="2984400"/>
            <a:ext cx="1378080" cy="192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25760" y="3081240"/>
            <a:ext cx="21081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5308400">
            <a:off x="1573200" y="3157200"/>
            <a:ext cx="403200" cy="73008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295880" y="4649760"/>
            <a:ext cx="1296720" cy="320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343400" y="2470320"/>
            <a:ext cx="804960" cy="730080"/>
          </a:xfrm>
          <a:prstGeom prst="ellipse">
            <a:avLst/>
          </a:prstGeom>
          <a:solidFill>
            <a:srgbClr val="ffa2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079960" y="2616120"/>
            <a:ext cx="339084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29160" y="5289480"/>
            <a:ext cx="804960" cy="730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95680" y="6280200"/>
            <a:ext cx="804960" cy="730080"/>
          </a:xfrm>
          <a:prstGeom prst="ellipse">
            <a:avLst/>
          </a:prstGeom>
          <a:solidFill>
            <a:srgbClr val="ffa2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4120" y="5603760"/>
            <a:ext cx="3390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02080" y="6591240"/>
            <a:ext cx="341820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82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rossing over ugu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"/>
          <p:cNvGrpSpPr/>
          <p:nvPr/>
        </p:nvGrpSpPr>
        <p:grpSpPr>
          <a:xfrm>
            <a:off x="5683320" y="5791320"/>
            <a:ext cx="3975120" cy="550800"/>
            <a:chOff x="5683320" y="5791320"/>
            <a:chExt cx="3975120" cy="550800"/>
          </a:xfrm>
        </p:grpSpPr>
        <p:sp>
          <p:nvSpPr>
            <p:cNvPr id="827" name=""/>
            <p:cNvSpPr/>
            <p:nvPr/>
          </p:nvSpPr>
          <p:spPr>
            <a:xfrm>
              <a:off x="5683320" y="605808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10160" y="594828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07200" y="594828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04280" y="59482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001000" y="60580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10480" y="59482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731080" y="5791320"/>
              <a:ext cx="92736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01400" y="5919480"/>
              <a:ext cx="104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2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09480" y="6396120"/>
            <a:ext cx="3975120" cy="550800"/>
            <a:chOff x="609480" y="6396120"/>
            <a:chExt cx="3975120" cy="550800"/>
          </a:xfrm>
        </p:grpSpPr>
        <p:sp>
          <p:nvSpPr>
            <p:cNvPr id="836" name=""/>
            <p:cNvSpPr/>
            <p:nvPr/>
          </p:nvSpPr>
          <p:spPr>
            <a:xfrm>
              <a:off x="609480" y="66628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336680" y="65530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33720" y="655308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30440" y="655308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27520" y="6662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36640" y="655308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57600" y="6396120"/>
              <a:ext cx="927000" cy="550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34640" y="651636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40000" y="6516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609480" y="5791320"/>
            <a:ext cx="3175200" cy="550800"/>
            <a:chOff x="609480" y="5791320"/>
            <a:chExt cx="3175200" cy="550800"/>
          </a:xfrm>
        </p:grpSpPr>
        <p:sp>
          <p:nvSpPr>
            <p:cNvPr id="846" name=""/>
            <p:cNvSpPr/>
            <p:nvPr/>
          </p:nvSpPr>
          <p:spPr>
            <a:xfrm>
              <a:off x="609480" y="6053040"/>
              <a:ext cx="72720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36680" y="594360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33720" y="605304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36640" y="594360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857680" y="5791320"/>
              <a:ext cx="92700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97600" y="590688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35360" y="2249280"/>
            <a:ext cx="4860720" cy="873360"/>
            <a:chOff x="2835360" y="2249280"/>
            <a:chExt cx="4860720" cy="873360"/>
          </a:xfrm>
        </p:grpSpPr>
        <p:sp>
          <p:nvSpPr>
            <p:cNvPr id="853" name=""/>
            <p:cNvSpPr/>
            <p:nvPr/>
          </p:nvSpPr>
          <p:spPr>
            <a:xfrm>
              <a:off x="2835360" y="239724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562200" y="228600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959280" y="228600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56000" y="228600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53080" y="239724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35360" y="2990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62200" y="287964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59280" y="287964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56000" y="287964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53080" y="2990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281560" y="2311560"/>
              <a:ext cx="927000" cy="758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41880" y="2397240"/>
              <a:ext cx="15224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41880" y="2990880"/>
              <a:ext cx="165420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64880" y="284616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61640" y="224928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477120" y="6519960"/>
            <a:ext cx="3174840" cy="550800"/>
            <a:chOff x="6477120" y="6519960"/>
            <a:chExt cx="3174840" cy="550800"/>
          </a:xfrm>
        </p:grpSpPr>
        <p:sp>
          <p:nvSpPr>
            <p:cNvPr id="869" name=""/>
            <p:cNvSpPr/>
            <p:nvPr/>
          </p:nvSpPr>
          <p:spPr>
            <a:xfrm>
              <a:off x="6477120" y="678168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03960" y="667224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01000" y="67816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04280" y="667224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724960" y="6519960"/>
              <a:ext cx="92700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50840" y="66308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2858400" y="4511520"/>
            <a:ext cx="1141560" cy="1111320"/>
            <a:chOff x="2858400" y="4511520"/>
            <a:chExt cx="1141560" cy="1111320"/>
          </a:xfrm>
        </p:grpSpPr>
        <p:sp>
          <p:nvSpPr>
            <p:cNvPr id="876" name=""/>
            <p:cNvSpPr/>
            <p:nvPr/>
          </p:nvSpPr>
          <p:spPr>
            <a:xfrm rot="19221600">
              <a:off x="2971800" y="4723920"/>
              <a:ext cx="914400" cy="685800"/>
            </a:xfrm>
            <a:prstGeom prst="leftArrow">
              <a:avLst>
                <a:gd name="adj1" fmla="val 50000"/>
                <a:gd name="adj2" fmla="val 3333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35680" y="46868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788880" y="4461480"/>
            <a:ext cx="1127880" cy="1134720"/>
            <a:chOff x="6788880" y="4461480"/>
            <a:chExt cx="1127880" cy="1134720"/>
          </a:xfrm>
        </p:grpSpPr>
        <p:sp>
          <p:nvSpPr>
            <p:cNvPr id="879" name=""/>
            <p:cNvSpPr/>
            <p:nvPr/>
          </p:nvSpPr>
          <p:spPr>
            <a:xfrm rot="13570800">
              <a:off x="6895440" y="4685760"/>
              <a:ext cx="914400" cy="685800"/>
            </a:xfrm>
            <a:prstGeom prst="leftArrow">
              <a:avLst>
                <a:gd name="adj1" fmla="val 50000"/>
                <a:gd name="adj2" fmla="val 33333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22600" y="468684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2438280" y="3570120"/>
            <a:ext cx="5230800" cy="860760"/>
            <a:chOff x="2438280" y="3570120"/>
            <a:chExt cx="5230800" cy="860760"/>
          </a:xfrm>
        </p:grpSpPr>
        <p:sp>
          <p:nvSpPr>
            <p:cNvPr id="882" name=""/>
            <p:cNvSpPr/>
            <p:nvPr/>
          </p:nvSpPr>
          <p:spPr>
            <a:xfrm>
              <a:off x="3546360" y="419904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2438280" y="3570120"/>
              <a:ext cx="5230800" cy="860760"/>
              <a:chOff x="2438280" y="3570120"/>
              <a:chExt cx="5230800" cy="860760"/>
            </a:xfrm>
          </p:grpSpPr>
          <p:sp>
            <p:nvSpPr>
              <p:cNvPr id="884" name=""/>
              <p:cNvSpPr/>
              <p:nvPr/>
            </p:nvSpPr>
            <p:spPr>
              <a:xfrm>
                <a:off x="3943440" y="4199040"/>
                <a:ext cx="396720" cy="220680"/>
              </a:xfrm>
              <a:prstGeom prst="rect">
                <a:avLst/>
              </a:prstGeom>
              <a:noFill/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5" name=""/>
              <p:cNvGrpSpPr/>
              <p:nvPr/>
            </p:nvGrpSpPr>
            <p:grpSpPr>
              <a:xfrm>
                <a:off x="2438280" y="3570120"/>
                <a:ext cx="5230800" cy="860760"/>
                <a:chOff x="2438280" y="3570120"/>
                <a:chExt cx="5230800" cy="86076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4340160" y="4199040"/>
                  <a:ext cx="39708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438280" y="3714840"/>
                  <a:ext cx="7272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165480" y="3605040"/>
                  <a:ext cx="39672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562200" y="3605040"/>
                  <a:ext cx="39708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959280" y="3605040"/>
                  <a:ext cx="39672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356000" y="3714840"/>
                  <a:ext cx="11304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819520" y="4308480"/>
                  <a:ext cx="7268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737240" y="4308480"/>
                  <a:ext cx="7268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265720" y="3632040"/>
                  <a:ext cx="927000" cy="758880"/>
                </a:xfrm>
                <a:prstGeom prst="ellipse">
                  <a:avLst/>
                </a:prstGeom>
                <a:solidFill>
                  <a:srgbClr val="980098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016680" y="3714840"/>
                  <a:ext cx="15206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016680" y="4308480"/>
                  <a:ext cx="16524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763440" y="4154400"/>
                  <a:ext cx="79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     2   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358440" y="3570120"/>
                  <a:ext cx="79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     2   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99" name=""/>
          <p:cNvGrpSpPr/>
          <p:nvPr/>
        </p:nvGrpSpPr>
        <p:grpSpPr>
          <a:xfrm>
            <a:off x="3156120" y="3124080"/>
            <a:ext cx="582120" cy="416160"/>
            <a:chOff x="3156120" y="3124080"/>
            <a:chExt cx="582120" cy="416160"/>
          </a:xfrm>
        </p:grpSpPr>
        <p:sp>
          <p:nvSpPr>
            <p:cNvPr id="900" name=""/>
            <p:cNvSpPr/>
            <p:nvPr/>
          </p:nvSpPr>
          <p:spPr>
            <a:xfrm>
              <a:off x="3156120" y="31413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3429000" y="3124080"/>
              <a:ext cx="309240" cy="324720"/>
              <a:chOff x="3429000" y="3124080"/>
              <a:chExt cx="309240" cy="324720"/>
            </a:xfrm>
          </p:grpSpPr>
          <p:sp>
            <p:nvSpPr>
              <p:cNvPr id="902" name=""/>
              <p:cNvSpPr/>
              <p:nvPr/>
            </p:nvSpPr>
            <p:spPr>
              <a:xfrm>
                <a:off x="3429000" y="3124080"/>
                <a:ext cx="304920" cy="304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49880" y="3128400"/>
                <a:ext cx="288360" cy="320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4" name=""/>
          <p:cNvGrpSpPr/>
          <p:nvPr/>
        </p:nvGrpSpPr>
        <p:grpSpPr>
          <a:xfrm>
            <a:off x="3370680" y="3757320"/>
            <a:ext cx="744120" cy="398880"/>
            <a:chOff x="3370680" y="3757320"/>
            <a:chExt cx="744120" cy="398880"/>
          </a:xfrm>
        </p:grpSpPr>
        <p:grpSp>
          <p:nvGrpSpPr>
            <p:cNvPr id="905" name=""/>
            <p:cNvGrpSpPr/>
            <p:nvPr/>
          </p:nvGrpSpPr>
          <p:grpSpPr>
            <a:xfrm>
              <a:off x="3809880" y="3820680"/>
              <a:ext cx="304920" cy="320400"/>
              <a:chOff x="3809880" y="3820680"/>
              <a:chExt cx="304920" cy="320400"/>
            </a:xfrm>
          </p:grpSpPr>
          <p:sp>
            <p:nvSpPr>
              <p:cNvPr id="906" name=""/>
              <p:cNvSpPr/>
              <p:nvPr/>
            </p:nvSpPr>
            <p:spPr>
              <a:xfrm>
                <a:off x="3809880" y="3828960"/>
                <a:ext cx="304920" cy="304920"/>
              </a:xfrm>
              <a:prstGeom prst="line">
                <a:avLst/>
              </a:prstGeom>
              <a:ln w="9360">
                <a:solidFill>
                  <a:srgbClr val="fff8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3818160" y="3820680"/>
                <a:ext cx="288360" cy="320400"/>
              </a:xfrm>
              <a:prstGeom prst="line">
                <a:avLst/>
              </a:prstGeom>
              <a:ln w="9360">
                <a:solidFill>
                  <a:srgbClr val="fff8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3370680" y="37573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910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rossing over inegu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4749840" y="2425680"/>
            <a:ext cx="330120" cy="5716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49480" y="1242720"/>
            <a:ext cx="93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duplicazione dei geni in tandem puo’ derivare da crossing-over disegu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52280" y="74520"/>
            <a:ext cx="8991360" cy="7256520"/>
            <a:chOff x="152280" y="74520"/>
            <a:chExt cx="8991360" cy="7256520"/>
          </a:xfrm>
        </p:grpSpPr>
        <p:pic>
          <p:nvPicPr>
            <p:cNvPr id="91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52280" y="7452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17280" y="19188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080" y="60804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4267080" y="15084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8560" y="70848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ge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219320" y="2108160"/>
            <a:ext cx="4572000" cy="406440"/>
            <a:chOff x="1219320" y="2108160"/>
            <a:chExt cx="4572000" cy="406440"/>
          </a:xfrm>
        </p:grpSpPr>
        <p:sp>
          <p:nvSpPr>
            <p:cNvPr id="926" name=""/>
            <p:cNvSpPr/>
            <p:nvPr/>
          </p:nvSpPr>
          <p:spPr>
            <a:xfrm>
              <a:off x="1219320" y="233676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719600" y="211140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76520" y="214956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990880" y="210816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3720" y="23367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86200" y="23367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181480" y="233676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191120" y="2946240"/>
            <a:ext cx="4572000" cy="406440"/>
            <a:chOff x="4191120" y="2946240"/>
            <a:chExt cx="4572000" cy="406440"/>
          </a:xfrm>
        </p:grpSpPr>
        <p:sp>
          <p:nvSpPr>
            <p:cNvPr id="934" name=""/>
            <p:cNvSpPr/>
            <p:nvPr/>
          </p:nvSpPr>
          <p:spPr>
            <a:xfrm>
              <a:off x="4191120" y="317484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91400" y="294948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48320" y="298764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962680" y="294624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105520" y="31748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58000" y="317484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153280" y="317484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 rot="5391600">
            <a:off x="4380840" y="3733560"/>
            <a:ext cx="1066680" cy="53316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533520" y="4927680"/>
            <a:ext cx="7543800" cy="406440"/>
            <a:chOff x="533520" y="4927680"/>
            <a:chExt cx="7543800" cy="406440"/>
          </a:xfrm>
        </p:grpSpPr>
        <p:sp>
          <p:nvSpPr>
            <p:cNvPr id="943" name=""/>
            <p:cNvSpPr/>
            <p:nvPr/>
          </p:nvSpPr>
          <p:spPr>
            <a:xfrm>
              <a:off x="533520" y="5156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33800" y="4930920"/>
              <a:ext cx="69048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90720" y="4968720"/>
              <a:ext cx="495360" cy="365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05080" y="492768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447920" y="515628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00400" y="51562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05320" y="5156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05600" y="493092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276880" y="492768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48320" y="51562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72200" y="51562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67480" y="51562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990800" y="5657760"/>
            <a:ext cx="6169680" cy="1428840"/>
            <a:chOff x="1990800" y="5657760"/>
            <a:chExt cx="6169680" cy="14288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1990800" y="5657760"/>
              <a:ext cx="1058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2839320" y="6062760"/>
              <a:ext cx="53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Mutazione=Evoluzio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9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mogenizz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6320" y="2133720"/>
            <a:ext cx="2209320" cy="304560"/>
            <a:chOff x="76320" y="2133720"/>
            <a:chExt cx="2209320" cy="304560"/>
          </a:xfrm>
        </p:grpSpPr>
        <p:sp>
          <p:nvSpPr>
            <p:cNvPr id="966" name=""/>
            <p:cNvSpPr/>
            <p:nvPr/>
          </p:nvSpPr>
          <p:spPr>
            <a:xfrm>
              <a:off x="76320" y="21337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6880" y="21337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43000" y="21337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676160" y="21337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5181480" y="21337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791320" y="21337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477120" y="21337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954800" y="1828800"/>
            <a:ext cx="3201120" cy="679320"/>
            <a:chOff x="1954800" y="1828800"/>
            <a:chExt cx="3201120" cy="679320"/>
          </a:xfrm>
        </p:grpSpPr>
        <p:grpSp>
          <p:nvGrpSpPr>
            <p:cNvPr id="974" name=""/>
            <p:cNvGrpSpPr/>
            <p:nvPr/>
          </p:nvGrpSpPr>
          <p:grpSpPr>
            <a:xfrm>
              <a:off x="2984400" y="2127240"/>
              <a:ext cx="2171520" cy="380880"/>
              <a:chOff x="2984400" y="2127240"/>
              <a:chExt cx="2171520" cy="380880"/>
            </a:xfrm>
          </p:grpSpPr>
          <p:sp>
            <p:nvSpPr>
              <p:cNvPr id="975" name=""/>
              <p:cNvSpPr/>
              <p:nvPr/>
            </p:nvSpPr>
            <p:spPr>
              <a:xfrm>
                <a:off x="298440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504960" y="212724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02588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54644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581280" y="212724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2286000" y="2127240"/>
              <a:ext cx="609480" cy="30456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54800" y="18288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ut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47640" y="3505320"/>
            <a:ext cx="2171520" cy="380880"/>
            <a:chOff x="647640" y="3505320"/>
            <a:chExt cx="2171520" cy="380880"/>
          </a:xfrm>
        </p:grpSpPr>
        <p:sp>
          <p:nvSpPr>
            <p:cNvPr id="983" name=""/>
            <p:cNvSpPr/>
            <p:nvPr/>
          </p:nvSpPr>
          <p:spPr>
            <a:xfrm>
              <a:off x="64764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168200" y="3505320"/>
              <a:ext cx="60984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8912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0968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18960" y="35053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14480" y="2819520"/>
            <a:ext cx="2171160" cy="380880"/>
            <a:chOff x="114480" y="2819520"/>
            <a:chExt cx="2171160" cy="380880"/>
          </a:xfrm>
        </p:grpSpPr>
        <p:sp>
          <p:nvSpPr>
            <p:cNvPr id="989" name=""/>
            <p:cNvSpPr/>
            <p:nvPr/>
          </p:nvSpPr>
          <p:spPr>
            <a:xfrm>
              <a:off x="114480" y="28195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5040" y="28195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55600" y="28195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676160" y="28195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1760" y="2819520"/>
              <a:ext cx="30456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1333440" y="5105520"/>
            <a:ext cx="2171520" cy="380880"/>
            <a:chOff x="1333440" y="5105520"/>
            <a:chExt cx="2171520" cy="380880"/>
          </a:xfrm>
        </p:grpSpPr>
        <p:grpSp>
          <p:nvGrpSpPr>
            <p:cNvPr id="995" name=""/>
            <p:cNvGrpSpPr/>
            <p:nvPr/>
          </p:nvGrpSpPr>
          <p:grpSpPr>
            <a:xfrm>
              <a:off x="1333440" y="5105520"/>
              <a:ext cx="2171520" cy="304560"/>
              <a:chOff x="1333440" y="5105520"/>
              <a:chExt cx="2171520" cy="304560"/>
            </a:xfrm>
          </p:grpSpPr>
          <p:sp>
            <p:nvSpPr>
              <p:cNvPr id="996" name=""/>
              <p:cNvSpPr/>
              <p:nvPr/>
            </p:nvSpPr>
            <p:spPr>
              <a:xfrm>
                <a:off x="133344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85400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374560" y="51055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9548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1981080" y="51055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884880" y="3056400"/>
            <a:ext cx="2809080" cy="592560"/>
            <a:chOff x="884880" y="3056400"/>
            <a:chExt cx="2809080" cy="592560"/>
          </a:xfrm>
        </p:grpSpPr>
        <p:sp>
          <p:nvSpPr>
            <p:cNvPr id="1002" name=""/>
            <p:cNvSpPr/>
            <p:nvPr/>
          </p:nvSpPr>
          <p:spPr>
            <a:xfrm rot="8100000">
              <a:off x="990360" y="3124080"/>
              <a:ext cx="380880" cy="457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25040" y="311148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ossing over inegu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80880" y="3885120"/>
            <a:ext cx="2666880" cy="991440"/>
            <a:chOff x="380880" y="3885120"/>
            <a:chExt cx="2666880" cy="991440"/>
          </a:xfrm>
        </p:grpSpPr>
        <p:grpSp>
          <p:nvGrpSpPr>
            <p:cNvPr id="1005" name=""/>
            <p:cNvGrpSpPr/>
            <p:nvPr/>
          </p:nvGrpSpPr>
          <p:grpSpPr>
            <a:xfrm>
              <a:off x="380880" y="3885120"/>
              <a:ext cx="2171880" cy="991440"/>
              <a:chOff x="380880" y="3885120"/>
              <a:chExt cx="2171880" cy="99144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380880" y="4495680"/>
                <a:ext cx="2171880" cy="380880"/>
                <a:chOff x="380880" y="4495680"/>
                <a:chExt cx="2171880" cy="38088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80880" y="4495680"/>
                  <a:ext cx="6098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901800" y="4495680"/>
                  <a:ext cx="609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422360" y="4495680"/>
                  <a:ext cx="609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1942920" y="4495680"/>
                  <a:ext cx="6098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028520" y="4495680"/>
                  <a:ext cx="304920" cy="380880"/>
                </a:xfrm>
                <a:prstGeom prst="irregularSeal2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2" name=""/>
              <p:cNvSpPr/>
              <p:nvPr/>
            </p:nvSpPr>
            <p:spPr>
              <a:xfrm>
                <a:off x="1523880" y="449568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5378400">
                <a:off x="1407960" y="4000320"/>
                <a:ext cx="533160" cy="304560"/>
              </a:xfrm>
              <a:custGeom>
                <a:avLst/>
                <a:gdLst>
                  <a:gd name="textAreaLeft" fmla="*/ 83160 w 533160"/>
                  <a:gd name="textAreaRight" fmla="*/ 466560 w 53316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2438280" y="4495680"/>
              <a:ext cx="60948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722960" y="4656600"/>
            <a:ext cx="2977920" cy="592560"/>
            <a:chOff x="1722960" y="4656600"/>
            <a:chExt cx="2977920" cy="592560"/>
          </a:xfrm>
        </p:grpSpPr>
        <p:sp>
          <p:nvSpPr>
            <p:cNvPr id="1016" name=""/>
            <p:cNvSpPr/>
            <p:nvPr/>
          </p:nvSpPr>
          <p:spPr>
            <a:xfrm rot="8100000">
              <a:off x="1828440" y="4724280"/>
              <a:ext cx="380880" cy="457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631960" y="472428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ossing over inegu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4191120" y="2895480"/>
            <a:ext cx="3200400" cy="1752480"/>
            <a:chOff x="4191120" y="2895480"/>
            <a:chExt cx="3200400" cy="1752480"/>
          </a:xfrm>
        </p:grpSpPr>
        <p:sp>
          <p:nvSpPr>
            <p:cNvPr id="1019" name=""/>
            <p:cNvSpPr/>
            <p:nvPr/>
          </p:nvSpPr>
          <p:spPr>
            <a:xfrm>
              <a:off x="4419720" y="3962160"/>
              <a:ext cx="1295640" cy="68580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91120" y="28954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a sequenza mutante s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ffonde nello schieramento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lla popol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7182360" y="1752480"/>
            <a:ext cx="256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effetto della der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tica si diffonde n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p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6561000" y="4419720"/>
            <a:ext cx="3238560" cy="380880"/>
            <a:chOff x="6561000" y="4419720"/>
            <a:chExt cx="3238560" cy="380880"/>
          </a:xfrm>
        </p:grpSpPr>
        <p:grpSp>
          <p:nvGrpSpPr>
            <p:cNvPr id="1023" name=""/>
            <p:cNvGrpSpPr/>
            <p:nvPr/>
          </p:nvGrpSpPr>
          <p:grpSpPr>
            <a:xfrm>
              <a:off x="6561000" y="4419720"/>
              <a:ext cx="2171160" cy="380880"/>
              <a:chOff x="6561000" y="4419720"/>
              <a:chExt cx="2171160" cy="3808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56100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081560" y="44197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02120" y="44197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12268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208280" y="4419720"/>
                <a:ext cx="30456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7627680" y="4419720"/>
              <a:ext cx="2171880" cy="380880"/>
              <a:chOff x="7627680" y="4419720"/>
              <a:chExt cx="2171880" cy="380880"/>
            </a:xfrm>
          </p:grpSpPr>
          <p:sp>
            <p:nvSpPr>
              <p:cNvPr id="1030" name=""/>
              <p:cNvSpPr/>
              <p:nvPr/>
            </p:nvSpPr>
            <p:spPr>
              <a:xfrm>
                <a:off x="7627680" y="44197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14860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66916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9189720" y="44197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275320" y="441972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>
              <a:off x="7779960" y="44197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6561000" y="3733920"/>
            <a:ext cx="3238560" cy="380880"/>
            <a:chOff x="6561000" y="3733920"/>
            <a:chExt cx="3238560" cy="380880"/>
          </a:xfrm>
        </p:grpSpPr>
        <p:grpSp>
          <p:nvGrpSpPr>
            <p:cNvPr id="1037" name=""/>
            <p:cNvGrpSpPr/>
            <p:nvPr/>
          </p:nvGrpSpPr>
          <p:grpSpPr>
            <a:xfrm>
              <a:off x="6561000" y="3733920"/>
              <a:ext cx="2171160" cy="380880"/>
              <a:chOff x="6561000" y="3733920"/>
              <a:chExt cx="2171160" cy="380880"/>
            </a:xfrm>
          </p:grpSpPr>
          <p:sp>
            <p:nvSpPr>
              <p:cNvPr id="1038" name=""/>
              <p:cNvSpPr/>
              <p:nvPr/>
            </p:nvSpPr>
            <p:spPr>
              <a:xfrm>
                <a:off x="656100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81560" y="37339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02120" y="37339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12268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208280" y="3733920"/>
                <a:ext cx="30456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7627680" y="3733920"/>
              <a:ext cx="2171880" cy="380880"/>
              <a:chOff x="7627680" y="3733920"/>
              <a:chExt cx="2171880" cy="380880"/>
            </a:xfrm>
          </p:grpSpPr>
          <p:sp>
            <p:nvSpPr>
              <p:cNvPr id="1044" name=""/>
              <p:cNvSpPr/>
              <p:nvPr/>
            </p:nvSpPr>
            <p:spPr>
              <a:xfrm>
                <a:off x="7627680" y="37339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14860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66916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9189720" y="37339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275320" y="373392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7779960" y="37339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Mutazioni ed evolu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240" y="1722600"/>
            <a:ext cx="87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con guadagno di funzione: 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680" y="2417760"/>
            <a:ext cx="37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n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5680" y="3255840"/>
            <a:ext cx="84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con perdita di funzione: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4233960"/>
            <a:ext cx="8337960" cy="1935000"/>
            <a:chOff x="304920" y="4233960"/>
            <a:chExt cx="8337960" cy="1935000"/>
          </a:xfrm>
        </p:grpSpPr>
        <p:sp>
          <p:nvSpPr>
            <p:cNvPr id="61" name=""/>
            <p:cNvSpPr/>
            <p:nvPr/>
          </p:nvSpPr>
          <p:spPr>
            <a:xfrm>
              <a:off x="1782360" y="4233960"/>
              <a:ext cx="686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Fitness evolutiva e mutazio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22480" y="4992480"/>
              <a:ext cx="589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apacita’ di un individuo di riprodur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04920" y="4343400"/>
              <a:ext cx="1353960" cy="182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52280" y="1778400"/>
            <a:ext cx="956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ggiore correlazi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ra le sequenze dei singoli membri della famiglia di una specie (paraloghi) che tra gli ortologhi di specie differ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5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Evoluzione orizzo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152280" y="4233240"/>
            <a:ext cx="9601200" cy="1675440"/>
            <a:chOff x="152280" y="4233240"/>
            <a:chExt cx="9601200" cy="1675440"/>
          </a:xfrm>
        </p:grpSpPr>
        <p:sp>
          <p:nvSpPr>
            <p:cNvPr id="1059" name=""/>
            <p:cNvSpPr/>
            <p:nvPr/>
          </p:nvSpPr>
          <p:spPr>
            <a:xfrm>
              <a:off x="152280" y="4233240"/>
              <a:ext cx="9525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vviene a causa di crossing-over diseguale, scambi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iseguale tra cromatidi fratelli e omogenizzazi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 prevale per le sequenze di DNA ripetu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n tandem (rDNA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0" name="" descr=""/>
            <p:cNvPicPr/>
            <p:nvPr/>
          </p:nvPicPr>
          <p:blipFill>
            <a:blip r:embed="rId2"/>
            <a:stretch/>
          </p:blipFill>
          <p:spPr>
            <a:xfrm>
              <a:off x="7923240" y="4343400"/>
              <a:ext cx="1830240" cy="156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4746600" y="14796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5278320" cy="330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Evoluzione orizzo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657600" y="1143000"/>
            <a:ext cx="1523880" cy="304920"/>
            <a:chOff x="3657600" y="1143000"/>
            <a:chExt cx="1523880" cy="304920"/>
          </a:xfrm>
        </p:grpSpPr>
        <p:sp>
          <p:nvSpPr>
            <p:cNvPr id="1070" name=""/>
            <p:cNvSpPr/>
            <p:nvPr/>
          </p:nvSpPr>
          <p:spPr>
            <a:xfrm>
              <a:off x="3657600" y="12952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962520" y="1143000"/>
              <a:ext cx="99036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2133720" y="1523880"/>
            <a:ext cx="7068960" cy="762120"/>
            <a:chOff x="2133720" y="1523880"/>
            <a:chExt cx="7068960" cy="762120"/>
          </a:xfrm>
        </p:grpSpPr>
        <p:sp>
          <p:nvSpPr>
            <p:cNvPr id="1073" name=""/>
            <p:cNvSpPr/>
            <p:nvPr/>
          </p:nvSpPr>
          <p:spPr>
            <a:xfrm>
              <a:off x="6885360" y="154728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tenato comu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2133720" y="1981080"/>
              <a:ext cx="4800240" cy="304920"/>
              <a:chOff x="2133720" y="1981080"/>
              <a:chExt cx="480024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2133720" y="2133720"/>
                <a:ext cx="335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438280" y="1981080"/>
                <a:ext cx="99072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5410080" y="1981080"/>
                <a:ext cx="1523880" cy="304920"/>
                <a:chOff x="5410080" y="1981080"/>
                <a:chExt cx="1523880" cy="30492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5410080" y="213336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715000" y="1981080"/>
                  <a:ext cx="9903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0" name=""/>
            <p:cNvSpPr/>
            <p:nvPr/>
          </p:nvSpPr>
          <p:spPr>
            <a:xfrm>
              <a:off x="3200400" y="1523880"/>
              <a:ext cx="2666880" cy="457200"/>
            </a:xfrm>
            <a:custGeom>
              <a:avLst/>
              <a:gdLst>
                <a:gd name="textAreaLeft" fmla="*/ 666720 w 2666880"/>
                <a:gd name="textAreaRight" fmla="*/ 2000160 w 2666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uplic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34800" y="2362320"/>
            <a:ext cx="8907120" cy="1600200"/>
            <a:chOff x="334800" y="2362320"/>
            <a:chExt cx="8907120" cy="1600200"/>
          </a:xfrm>
        </p:grpSpPr>
        <p:sp>
          <p:nvSpPr>
            <p:cNvPr id="1082" name=""/>
            <p:cNvSpPr/>
            <p:nvPr/>
          </p:nvSpPr>
          <p:spPr>
            <a:xfrm>
              <a:off x="334800" y="2971440"/>
              <a:ext cx="12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peci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12520" y="299520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peci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2818440" y="2362320"/>
              <a:ext cx="3734640" cy="1028160"/>
              <a:chOff x="2818440" y="2362320"/>
              <a:chExt cx="3734640" cy="1028160"/>
            </a:xfrm>
          </p:grpSpPr>
          <p:sp>
            <p:nvSpPr>
              <p:cNvPr id="1085" name=""/>
              <p:cNvSpPr/>
              <p:nvPr/>
            </p:nvSpPr>
            <p:spPr>
              <a:xfrm flipV="1">
                <a:off x="5791320" y="2399760"/>
                <a:ext cx="761760" cy="990360"/>
              </a:xfrm>
              <a:custGeom>
                <a:avLst/>
                <a:gdLst>
                  <a:gd name="textAreaLeft" fmla="*/ 253800 w 761760"/>
                  <a:gd name="textAreaRight" fmla="*/ 652680 w 761760"/>
                  <a:gd name="textAreaTop" fmla="*/ 570240 h 990360"/>
                  <a:gd name="textAreaBottom" fmla="*/ 84852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0792800">
                <a:off x="2819520" y="2398680"/>
                <a:ext cx="761760" cy="990720"/>
              </a:xfrm>
              <a:custGeom>
                <a:avLst/>
                <a:gdLst>
                  <a:gd name="textAreaLeft" fmla="*/ 253800 w 761760"/>
                  <a:gd name="textAreaRight" fmla="*/ 652680 w 761760"/>
                  <a:gd name="textAreaTop" fmla="*/ 570600 h 990720"/>
                  <a:gd name="textAreaBottom" fmla="*/ 84852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95480" y="2362320"/>
                <a:ext cx="3581640" cy="380880"/>
              </a:xfrm>
              <a:prstGeom prst="rect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pecia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792000" y="3657600"/>
              <a:ext cx="2484720" cy="304920"/>
              <a:chOff x="792000" y="3657600"/>
              <a:chExt cx="2484720" cy="304920"/>
            </a:xfrm>
          </p:grpSpPr>
          <p:sp>
            <p:nvSpPr>
              <p:cNvPr id="1089" name=""/>
              <p:cNvSpPr/>
              <p:nvPr/>
            </p:nvSpPr>
            <p:spPr>
              <a:xfrm>
                <a:off x="792000" y="38098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014480" y="3657600"/>
                <a:ext cx="72396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2163600" y="3657600"/>
                <a:ext cx="1113120" cy="304920"/>
                <a:chOff x="2163600" y="3657600"/>
                <a:chExt cx="1113120" cy="3049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2163600" y="3809880"/>
                  <a:ext cx="111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386080" y="3657600"/>
                  <a:ext cx="72324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4" name=""/>
            <p:cNvGrpSpPr/>
            <p:nvPr/>
          </p:nvGrpSpPr>
          <p:grpSpPr>
            <a:xfrm>
              <a:off x="6019920" y="3657600"/>
              <a:ext cx="2484000" cy="304920"/>
              <a:chOff x="6019920" y="3657600"/>
              <a:chExt cx="2484000" cy="304920"/>
            </a:xfrm>
          </p:grpSpPr>
          <p:sp>
            <p:nvSpPr>
              <p:cNvPr id="1095" name=""/>
              <p:cNvSpPr/>
              <p:nvPr/>
            </p:nvSpPr>
            <p:spPr>
              <a:xfrm>
                <a:off x="6019920" y="380988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42040" y="3657600"/>
                <a:ext cx="72360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7" name=""/>
              <p:cNvGrpSpPr/>
              <p:nvPr/>
            </p:nvGrpSpPr>
            <p:grpSpPr>
              <a:xfrm>
                <a:off x="7391160" y="3657600"/>
                <a:ext cx="1112760" cy="304920"/>
                <a:chOff x="7391160" y="3657600"/>
                <a:chExt cx="1112760" cy="3049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7391160" y="3809880"/>
                  <a:ext cx="1112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613640" y="3657600"/>
                  <a:ext cx="72288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0" name=""/>
          <p:cNvGrpSpPr/>
          <p:nvPr/>
        </p:nvGrpSpPr>
        <p:grpSpPr>
          <a:xfrm>
            <a:off x="792000" y="4076280"/>
            <a:ext cx="7818120" cy="1181520"/>
            <a:chOff x="792000" y="4076280"/>
            <a:chExt cx="7818120" cy="1181520"/>
          </a:xfrm>
        </p:grpSpPr>
        <p:grpSp>
          <p:nvGrpSpPr>
            <p:cNvPr id="1101" name=""/>
            <p:cNvGrpSpPr/>
            <p:nvPr/>
          </p:nvGrpSpPr>
          <p:grpSpPr>
            <a:xfrm>
              <a:off x="792000" y="4076280"/>
              <a:ext cx="7818120" cy="1181520"/>
              <a:chOff x="792000" y="4076280"/>
              <a:chExt cx="7818120" cy="1181520"/>
            </a:xfrm>
          </p:grpSpPr>
          <p:grpSp>
            <p:nvGrpSpPr>
              <p:cNvPr id="1102" name=""/>
              <p:cNvGrpSpPr/>
              <p:nvPr/>
            </p:nvGrpSpPr>
            <p:grpSpPr>
              <a:xfrm>
                <a:off x="792000" y="4952880"/>
                <a:ext cx="2484720" cy="304920"/>
                <a:chOff x="792000" y="4952880"/>
                <a:chExt cx="2484720" cy="30492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792000" y="51051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1014480" y="4952880"/>
                  <a:ext cx="7239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1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5" name=""/>
                <p:cNvGrpSpPr/>
                <p:nvPr/>
              </p:nvGrpSpPr>
              <p:grpSpPr>
                <a:xfrm>
                  <a:off x="2163600" y="4952880"/>
                  <a:ext cx="1113120" cy="304920"/>
                  <a:chOff x="2163600" y="4952880"/>
                  <a:chExt cx="1113120" cy="30492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>
                    <a:off x="2163600" y="5105160"/>
                    <a:ext cx="1113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386080" y="4952880"/>
                    <a:ext cx="723240" cy="304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08" name=""/>
              <p:cNvSpPr/>
              <p:nvPr/>
            </p:nvSpPr>
            <p:spPr>
              <a:xfrm>
                <a:off x="1325520" y="4724280"/>
                <a:ext cx="228600" cy="304920"/>
              </a:xfrm>
              <a:prstGeom prst="lightningBol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6019920" y="4952880"/>
                <a:ext cx="2590200" cy="304920"/>
                <a:chOff x="6019920" y="4952880"/>
                <a:chExt cx="2590200" cy="3049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6019920" y="5105160"/>
                  <a:ext cx="1429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6251760" y="4952880"/>
                  <a:ext cx="7545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2" name=""/>
                <p:cNvGrpSpPr/>
                <p:nvPr/>
              </p:nvGrpSpPr>
              <p:grpSpPr>
                <a:xfrm>
                  <a:off x="7449840" y="4952880"/>
                  <a:ext cx="1160280" cy="304920"/>
                  <a:chOff x="7449840" y="4952880"/>
                  <a:chExt cx="1160280" cy="30492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7449840" y="5105160"/>
                    <a:ext cx="1160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7681680" y="4952880"/>
                    <a:ext cx="753840" cy="304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2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#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5" name=""/>
              <p:cNvSpPr/>
              <p:nvPr/>
            </p:nvSpPr>
            <p:spPr>
              <a:xfrm>
                <a:off x="7581960" y="4724280"/>
                <a:ext cx="228600" cy="304920"/>
              </a:xfrm>
              <a:prstGeom prst="lightningBol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200400" y="4191120"/>
                <a:ext cx="2666880" cy="457200"/>
              </a:xfrm>
              <a:custGeom>
                <a:avLst/>
                <a:gdLst>
                  <a:gd name="textAreaLeft" fmla="*/ 666720 w 2666880"/>
                  <a:gd name="textAreaRight" fmla="*/ 2000160 w 26668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16200" y="0"/>
                    </a:lnTo>
                    <a:lnTo>
                      <a:pt x="16200" y="8100"/>
                    </a:lnTo>
                    <a:lnTo>
                      <a:pt x="18900" y="8100"/>
                    </a:lnTo>
                    <a:lnTo>
                      <a:pt x="18900" y="5500"/>
                    </a:lnTo>
                    <a:lnTo>
                      <a:pt x="21600" y="10800"/>
                    </a:lnTo>
                    <a:lnTo>
                      <a:pt x="18900" y="16100"/>
                    </a:lnTo>
                    <a:lnTo>
                      <a:pt x="18900" y="13500"/>
                    </a:lnTo>
                    <a:lnTo>
                      <a:pt x="16200" y="13500"/>
                    </a:lnTo>
                    <a:lnTo>
                      <a:pt x="16200" y="21600"/>
                    </a:lnTo>
                    <a:lnTo>
                      <a:pt x="5400" y="21600"/>
                    </a:lnTo>
                    <a:lnTo>
                      <a:pt x="5400" y="13500"/>
                    </a:lnTo>
                    <a:lnTo>
                      <a:pt x="2700" y="13500"/>
                    </a:lnTo>
                    <a:lnTo>
                      <a:pt x="2700" y="16100"/>
                    </a:lnTo>
                    <a:lnTo>
                      <a:pt x="0" y="10800"/>
                    </a:lnTo>
                    <a:lnTo>
                      <a:pt x="2700" y="5500"/>
                    </a:lnTo>
                    <a:lnTo>
                      <a:pt x="2700" y="8100"/>
                    </a:lnTo>
                    <a:lnTo>
                      <a:pt x="5400" y="8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utazi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391600">
                <a:off x="1790280" y="4191120"/>
                <a:ext cx="533520" cy="30456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5391600">
                <a:off x="6971760" y="4190760"/>
                <a:ext cx="533520" cy="30492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155412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724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944640" y="6324480"/>
            <a:ext cx="7589520" cy="304920"/>
            <a:chOff x="944640" y="6324480"/>
            <a:chExt cx="7589520" cy="304920"/>
          </a:xfrm>
        </p:grpSpPr>
        <p:sp>
          <p:nvSpPr>
            <p:cNvPr id="1122" name=""/>
            <p:cNvSpPr/>
            <p:nvPr/>
          </p:nvSpPr>
          <p:spPr>
            <a:xfrm>
              <a:off x="944640" y="6477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66760" y="6324480"/>
              <a:ext cx="72396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1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2316240" y="6324480"/>
              <a:ext cx="1112760" cy="304920"/>
              <a:chOff x="2316240" y="6324480"/>
              <a:chExt cx="1112760" cy="304920"/>
            </a:xfrm>
          </p:grpSpPr>
          <p:sp>
            <p:nvSpPr>
              <p:cNvPr id="1125" name=""/>
              <p:cNvSpPr/>
              <p:nvPr/>
            </p:nvSpPr>
            <p:spPr>
              <a:xfrm>
                <a:off x="2316240" y="6476760"/>
                <a:ext cx="111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538720" y="6324480"/>
                <a:ext cx="72288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2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170640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11616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5943600" y="6324480"/>
              <a:ext cx="2590560" cy="304920"/>
              <a:chOff x="5943600" y="6324480"/>
              <a:chExt cx="2590560" cy="304920"/>
            </a:xfrm>
          </p:grpSpPr>
          <p:sp>
            <p:nvSpPr>
              <p:cNvPr id="1130" name=""/>
              <p:cNvSpPr/>
              <p:nvPr/>
            </p:nvSpPr>
            <p:spPr>
              <a:xfrm>
                <a:off x="5943600" y="6476760"/>
                <a:ext cx="142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175440" y="6324480"/>
                <a:ext cx="75456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2" name=""/>
              <p:cNvGrpSpPr/>
              <p:nvPr/>
            </p:nvGrpSpPr>
            <p:grpSpPr>
              <a:xfrm>
                <a:off x="7373520" y="6324480"/>
                <a:ext cx="1160640" cy="304920"/>
                <a:chOff x="7373520" y="6324480"/>
                <a:chExt cx="1160640" cy="3049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7373520" y="6476760"/>
                  <a:ext cx="116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605720" y="6324480"/>
                  <a:ext cx="75420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5" name=""/>
            <p:cNvSpPr/>
            <p:nvPr/>
          </p:nvSpPr>
          <p:spPr>
            <a:xfrm>
              <a:off x="769608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24852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1295280" y="5334120"/>
            <a:ext cx="6781680" cy="990720"/>
            <a:chOff x="1295280" y="5334120"/>
            <a:chExt cx="6781680" cy="990720"/>
          </a:xfrm>
        </p:grpSpPr>
        <p:sp>
          <p:nvSpPr>
            <p:cNvPr id="1138" name=""/>
            <p:cNvSpPr/>
            <p:nvPr/>
          </p:nvSpPr>
          <p:spPr>
            <a:xfrm>
              <a:off x="3653280" y="5667120"/>
              <a:ext cx="1909080" cy="398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rossing o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295280" y="5334120"/>
              <a:ext cx="1600200" cy="380880"/>
            </a:xfrm>
            <a:custGeom>
              <a:avLst/>
              <a:gdLst>
                <a:gd name="textAreaLeft" fmla="*/ 318960 w 1600200"/>
                <a:gd name="textAreaRight" fmla="*/ 1121040 w 160020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18" hR="21600" stAng="10800000" swAng="-5400000"/>
                  <a:lnTo>
                    <a:pt x="10823" y="21600"/>
                  </a:lnTo>
                  <a:arcTo wR="8618" hR="21600" stAng="5400000" swAng="-2291211"/>
                  <a:lnTo>
                    <a:pt x="20668" y="9771"/>
                  </a:lnTo>
                  <a:lnTo>
                    <a:pt x="18338" y="0"/>
                  </a:lnTo>
                  <a:lnTo>
                    <a:pt x="14143" y="9771"/>
                  </a:lnTo>
                  <a:lnTo>
                    <a:pt x="16303" y="9771"/>
                  </a:lnTo>
                  <a:arcTo wR="8618" hR="21600" stAng="3108789" swAng="2114444"/>
                  <a:lnTo>
                    <a:pt x="9720" y="21422"/>
                  </a:lnTo>
                  <a:arcTo wR="8618" hR="21600" stAng="5576766" swAng="5223234"/>
                  <a:close/>
                </a:path>
                <a:path fill="darkenLess" w="21600" h="21600">
                  <a:moveTo>
                    <a:pt x="0" y="0"/>
                  </a:moveTo>
                  <a:arcTo wR="8618" hR="21600" stAng="10800000" swAng="-5400000"/>
                  <a:lnTo>
                    <a:pt x="10823" y="21600"/>
                  </a:lnTo>
                  <a:arcTo wR="8618" hR="21600" stAng="5400000" swAng="176766"/>
                  <a:lnTo>
                    <a:pt x="9720" y="21422"/>
                  </a:lnTo>
                  <a:arcTo wR="8618" hR="21600" stAng="5576766" swAng="5223234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6400080" y="5334120"/>
              <a:ext cx="1676520" cy="380880"/>
            </a:xfrm>
            <a:custGeom>
              <a:avLst/>
              <a:gdLst>
                <a:gd name="textAreaLeft" fmla="*/ 334440 w 1676520"/>
                <a:gd name="textAreaRight" fmla="*/ 1174320 w 167652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22" hR="21600" stAng="10800000" swAng="-5400000"/>
                  <a:lnTo>
                    <a:pt x="10818" y="21600"/>
                  </a:lnTo>
                  <a:arcTo wR="8622" hR="21600" stAng="5400000" swAng="-2292083"/>
                  <a:lnTo>
                    <a:pt x="20667" y="9771"/>
                  </a:lnTo>
                  <a:lnTo>
                    <a:pt x="18342" y="0"/>
                  </a:lnTo>
                  <a:lnTo>
                    <a:pt x="14151" y="9771"/>
                  </a:lnTo>
                  <a:lnTo>
                    <a:pt x="16311" y="9771"/>
                  </a:lnTo>
                  <a:arcTo wR="8622" hR="21600" stAng="3107917" swAng="2116050"/>
                  <a:lnTo>
                    <a:pt x="9720" y="21424"/>
                  </a:lnTo>
                  <a:arcTo wR="8622" hR="21600" stAng="5576033" swAng="5223967"/>
                  <a:close/>
                </a:path>
                <a:path fill="darkenLess" w="21600" h="21600">
                  <a:moveTo>
                    <a:pt x="0" y="0"/>
                  </a:moveTo>
                  <a:arcTo wR="8622" hR="21600" stAng="10800000" swAng="-5400000"/>
                  <a:lnTo>
                    <a:pt x="10818" y="21600"/>
                  </a:lnTo>
                  <a:arcTo wR="8622" hR="21600" stAng="5400000" swAng="176033"/>
                  <a:lnTo>
                    <a:pt x="9720" y="21424"/>
                  </a:lnTo>
                  <a:arcTo wR="8622" hR="21600" stAng="5576033" swAng="5223967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5391600">
              <a:off x="1866240" y="5905440"/>
              <a:ext cx="533160" cy="30492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5391600">
              <a:off x="7048440" y="5905440"/>
              <a:ext cx="533160" cy="30456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3105720" y="103680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OLUZIONE ORIZZO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4920" y="4458240"/>
            <a:ext cx="92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ISULTATO DEI C.O. DISEGUAL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4920" y="1662120"/>
            <a:ext cx="949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dell’ rDNA sono organizzati in grossi raggruppamenti di unita’ ripetute in tandem che contengono 50-60 copie di un’unita’ di circa 40 Kb. Tali raggruppamenti sono localizzati sulle braccia corte dei cromosomi acrocentrici 13, 14, 15, 21 e 22 che spesso si scambiano sequenze mediante C.O. ineguali tra cromosomi NON omolog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200196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r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06360" y="5222880"/>
            <a:ext cx="896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singoli geni degli rDNA umani, per effe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l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mogenizzazione, sono fra loro piu’ simili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o non lo siano rispetto ai geni degli al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m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990720" y="2364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VERSIONI CROMOSOM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SLOCAZIONI BILAN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066680" y="1638720"/>
            <a:ext cx="75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SPOSIZIONI (sequenze AL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03120" y="3801960"/>
            <a:ext cx="929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voluzione del cariotipo e del fenotipo NON sono necessariamente CORRELATI........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untiacus muntjak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 chr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untiacus reevesi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3 chr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.......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omo e Great a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Come altro evolve il geno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1796760" y="1181520"/>
            <a:ext cx="60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sa ci rende diversi d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" y="2182320"/>
            <a:ext cx="862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organizzazione del DNA genomico e gli schemi di espressione genica sono altamente conservati (110 milioni di anni di separ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1160" y="3425400"/>
            <a:ext cx="94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alisi citogenetiche rivelano organizzazioni cromosomiche differen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0 coppie per il t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3 coppie per l’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10880" y="5545080"/>
            <a:ext cx="97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ine dei geni tra i cromosomi umani e murini non e’ mo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er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27160" y="4680360"/>
            <a:ext cx="92804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ostante cio’ esistenza 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menti cromosomici ortolog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78000" y="669960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ERVAZIONE DELLA SINT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il t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7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228600" y="1622520"/>
            <a:ext cx="94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attivazione della X e imprinting genomico (gene per il recettore del fattore di crescita insulino-simile Igf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0800" y="3411360"/>
            <a:ext cx="82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NA minisatellite e’ molto conservato (TTAGG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 perche’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73600" y="2543400"/>
            <a:ext cx="92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meccanismi di regolazione sono sotto pressione sele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85800" y="539280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sequenze di DNA altamente ripetuto sono molto diverse (divergono piu’ rapidamente)....perche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474560" y="63900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ca una pressione selettiva conserv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il to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167480" y="4249800"/>
            <a:ext cx="74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importante la telomerasi e la conserv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a sua f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304920" y="1811160"/>
            <a:ext cx="9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elementi interspersi altamente ripetuti NON sono ben conser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82520" y="3212640"/>
            <a:ext cx="94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ripetizione Alu (750.000 copie) sembra essersi evoluta come pseudogeneprocessato da prodotti di trascrizione del gene RNA 7SL ed e’ specifica dei prim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0880" y="5316480"/>
            <a:ext cx="92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quivalente murino e’ la ripetizione B1 (stessa origine di Alu), con bassa similarita’ di sequenza con l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il t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9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228600" y="18709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po’ di dati sulle divergen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PTR (Pan troglodytes) 5.5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GGO (Gorilla gorilla) 6.7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PPY (Pongo pygmeus) 8.2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042560" y="4263120"/>
            <a:ext cx="728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e differenze citogenet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sioni  pericentriche e paracent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sione per dare l’attuale cromoso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locazione reciproca in GGO tra 5 e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calizzazione dell’eterocrom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573040" y="26143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387640" y="20808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027200" y="162360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      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454880" y="2057400"/>
            <a:ext cx="533520" cy="167652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607160" y="2057400"/>
            <a:ext cx="457200" cy="45720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772400" y="2438280"/>
            <a:ext cx="609480" cy="60984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962840" y="2971440"/>
            <a:ext cx="609840" cy="60948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le great 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1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le great apes: 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23840" y="5967000"/>
            <a:ext cx="32688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11240" y="5967000"/>
            <a:ext cx="32688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277160" y="5967000"/>
            <a:ext cx="47340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953680" y="5967000"/>
            <a:ext cx="47340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022600" y="5967000"/>
            <a:ext cx="34992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018720" y="5967000"/>
            <a:ext cx="33912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1612800" cy="3848400"/>
          </a:xfrm>
          <a:prstGeom prst="rect">
            <a:avLst/>
          </a:prstGeom>
          <a:ln w="0">
            <a:noFill/>
          </a:ln>
        </p:spPr>
      </p:pic>
      <p:pic>
        <p:nvPicPr>
          <p:cNvPr id="1224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2108160" cy="328932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3"/>
          <a:stretch/>
        </p:blipFill>
        <p:spPr>
          <a:xfrm>
            <a:off x="5943600" y="4089240"/>
            <a:ext cx="1447920" cy="162576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7505640" y="3276720"/>
            <a:ext cx="2311560" cy="253980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3022560" y="297180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022560" y="4013280"/>
            <a:ext cx="76320" cy="154944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49440"/>
              <a:gd name="textAreaBottom" fmla="*/ 1485000 h 15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675160" y="34275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11240" y="4588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3962520" y="3733920"/>
            <a:ext cx="1854000" cy="227304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5105520" y="4114800"/>
            <a:ext cx="75960" cy="380880"/>
          </a:xfrm>
          <a:custGeom>
            <a:avLst/>
            <a:gdLst>
              <a:gd name="textAreaLeft" fmla="*/ 22320 w 75960"/>
              <a:gd name="textAreaRight" fmla="*/ 76320 w 7596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05520" y="4495680"/>
            <a:ext cx="75960" cy="990720"/>
          </a:xfrm>
          <a:custGeom>
            <a:avLst/>
            <a:gdLst>
              <a:gd name="textAreaLeft" fmla="*/ 22320 w 75960"/>
              <a:gd name="textAreaRight" fmla="*/ 7632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83320" y="4207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868640" y="5139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7760" y="17686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 S   G  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48840" y="237852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S        G  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372560" y="367380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S     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181560" y="39438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S  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675560" y="2988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S G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761680" y="435960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S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1447920"/>
            <a:ext cx="3124080" cy="160020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19980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=u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=scimpaz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=gor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=ora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nti di rot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029200" y="29210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990720" y="1981080"/>
            <a:ext cx="8153280" cy="4918320"/>
            <a:chOff x="990720" y="1981080"/>
            <a:chExt cx="8153280" cy="4918320"/>
          </a:xfrm>
        </p:grpSpPr>
        <p:grpSp>
          <p:nvGrpSpPr>
            <p:cNvPr id="1245" name=""/>
            <p:cNvGrpSpPr/>
            <p:nvPr/>
          </p:nvGrpSpPr>
          <p:grpSpPr>
            <a:xfrm>
              <a:off x="990720" y="1981080"/>
              <a:ext cx="8153280" cy="4800600"/>
              <a:chOff x="990720" y="1981080"/>
              <a:chExt cx="8153280" cy="4800600"/>
            </a:xfrm>
          </p:grpSpPr>
          <p:sp>
            <p:nvSpPr>
              <p:cNvPr id="1246" name=""/>
              <p:cNvSpPr/>
              <p:nvPr/>
            </p:nvSpPr>
            <p:spPr>
              <a:xfrm flipH="1">
                <a:off x="8610480" y="5638680"/>
                <a:ext cx="53352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7543800" y="5791320"/>
                <a:ext cx="53352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6705720" y="34290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4870440" y="3228840"/>
                <a:ext cx="317520" cy="85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3276720" y="198108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990720" y="4038480"/>
                <a:ext cx="6094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2057400" y="6705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70960" y="65005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terocroma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55" name="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949320" y="1265400"/>
            <a:ext cx="8271000" cy="604980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Il cariotipo compa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6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640" y="1862280"/>
            <a:ext cx="96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 process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dosimbiontic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’ stato il primo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963160"/>
            <a:ext cx="911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 genoma del DNA mitocondriale attuale e’ di circa 16 kb e codifica per 37 g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79840"/>
            <a:ext cx="941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cellule procariotiche attuali (eubatteri ed archea) contengono da alcune a centinaia di mb di dna e diverse centinaia o migliaia di geni quindi........perdita di geni nel caso dei mitocond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DNA mitocondr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5400720" y="2209680"/>
            <a:ext cx="3971880" cy="442440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4012920" cy="439272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1781640" y="1405080"/>
            <a:ext cx="65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DA 208G20 (CHR. 13 E 21 IN H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Sonda pericentro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73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851400" y="1181520"/>
            <a:ext cx="79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sa ci rende diversi dalle Great ap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3920" y="2127600"/>
            <a:ext cx="58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te conservazione della sint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04920" y="2801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sequenze codificanti ortologhe di HSA e PTR identita’ di sequenza del 98-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04920" y="3957120"/>
            <a:ext cx="81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NA altamente ripetuto (sequenze alfoidi) molto divergenti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PIDA DIVERG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31040" y="5339160"/>
            <a:ext cx="74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e telomeriche altamente conser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85800" y="61545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elementi interspersi altamente ripetuti sono conservati le sequenze Alu sono primate-spec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L’uomo e le great 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76320" y="0"/>
            <a:ext cx="9219600" cy="7256520"/>
            <a:chOff x="76320" y="0"/>
            <a:chExt cx="9219600" cy="7256520"/>
          </a:xfrm>
        </p:grpSpPr>
        <p:pic>
          <p:nvPicPr>
            <p:cNvPr id="128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38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7" name=""/>
            <p:cNvSpPr/>
            <p:nvPr/>
          </p:nvSpPr>
          <p:spPr>
            <a:xfrm>
              <a:off x="88920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79400" y="533520"/>
              <a:ext cx="8360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4295520" y="76320"/>
              <a:ext cx="500040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8728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99960" y="1663920"/>
            <a:ext cx="89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DIVERSITA’ GENETICA NELL’UOMO E’ LIMI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880" y="2344680"/>
            <a:ext cx="92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38 uomini la sequenza dell’introne 729nt nel gene          ZFY era SEMPRE IDE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7200" y="3487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scimpanze’ mostrano una maggiore variabilita’ genetica nei loro genomi nucleari rispetto a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85800" y="4929120"/>
            <a:ext cx="880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specia umana e’ passata da un for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o di bottiglia” (grave riduzione delle dimensioni della popolazione), perdendo gran parte della variabil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d0400"/>
                </a:solidFill>
                <a:latin typeface="Comic Sans MS"/>
              </a:rPr>
              <a:t>Uomo vs 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9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5105520" y="2590920"/>
            <a:ext cx="2971800" cy="1828800"/>
            <a:chOff x="5105520" y="2590920"/>
            <a:chExt cx="2971800" cy="1828800"/>
          </a:xfrm>
        </p:grpSpPr>
        <p:sp>
          <p:nvSpPr>
            <p:cNvPr id="75" name=""/>
            <p:cNvSpPr/>
            <p:nvPr/>
          </p:nvSpPr>
          <p:spPr>
            <a:xfrm>
              <a:off x="5105520" y="2590920"/>
              <a:ext cx="2971800" cy="1828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101000">
              <a:off x="5343120" y="3495600"/>
              <a:ext cx="167652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101000">
              <a:off x="5438880" y="3529080"/>
              <a:ext cx="131436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77120" y="2895480"/>
              <a:ext cx="1143000" cy="6350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30000">
              <a:off x="6705720" y="2933640"/>
              <a:ext cx="761760" cy="4762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30000">
              <a:off x="6754680" y="2976480"/>
              <a:ext cx="596880" cy="48096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2857680"/>
            <a:ext cx="1143000" cy="63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3120" y="2892240"/>
            <a:ext cx="766440" cy="530640"/>
            <a:chOff x="1293120" y="2892240"/>
            <a:chExt cx="766440" cy="530640"/>
          </a:xfrm>
        </p:grpSpPr>
        <p:sp>
          <p:nvSpPr>
            <p:cNvPr id="83" name=""/>
            <p:cNvSpPr/>
            <p:nvPr/>
          </p:nvSpPr>
          <p:spPr>
            <a:xfrm rot="30000">
              <a:off x="1295280" y="2895480"/>
              <a:ext cx="762120" cy="4762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30000">
              <a:off x="1345680" y="2939040"/>
              <a:ext cx="596880" cy="48132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96840" y="1968480"/>
            <a:ext cx="2641680" cy="3009960"/>
          </a:xfrm>
          <a:custGeom>
            <a:avLst/>
            <a:gdLst/>
            <a:ahLst/>
            <a:rect l="l" t="t" r="r" b="b"/>
            <a:pathLst>
              <a:path w="1664" h="1896">
                <a:moveTo>
                  <a:pt x="1555" y="488"/>
                </a:moveTo>
                <a:cubicBezTo>
                  <a:pt x="1547" y="458"/>
                  <a:pt x="1546" y="426"/>
                  <a:pt x="1531" y="400"/>
                </a:cubicBezTo>
                <a:cubicBezTo>
                  <a:pt x="1510" y="363"/>
                  <a:pt x="1474" y="338"/>
                  <a:pt x="1451" y="304"/>
                </a:cubicBezTo>
                <a:cubicBezTo>
                  <a:pt x="1411" y="247"/>
                  <a:pt x="1372" y="193"/>
                  <a:pt x="1323" y="144"/>
                </a:cubicBezTo>
                <a:cubicBezTo>
                  <a:pt x="1208" y="29"/>
                  <a:pt x="997" y="29"/>
                  <a:pt x="851" y="16"/>
                </a:cubicBezTo>
                <a:cubicBezTo>
                  <a:pt x="824" y="10"/>
                  <a:pt x="798" y="0"/>
                  <a:pt x="771" y="0"/>
                </a:cubicBezTo>
                <a:cubicBezTo>
                  <a:pt x="704" y="0"/>
                  <a:pt x="637" y="5"/>
                  <a:pt x="571" y="16"/>
                </a:cubicBezTo>
                <a:cubicBezTo>
                  <a:pt x="455" y="34"/>
                  <a:pt x="422" y="112"/>
                  <a:pt x="331" y="168"/>
                </a:cubicBezTo>
                <a:cubicBezTo>
                  <a:pt x="245" y="219"/>
                  <a:pt x="178" y="264"/>
                  <a:pt x="115" y="344"/>
                </a:cubicBezTo>
                <a:cubicBezTo>
                  <a:pt x="102" y="420"/>
                  <a:pt x="92" y="500"/>
                  <a:pt x="75" y="576"/>
                </a:cubicBezTo>
                <a:cubicBezTo>
                  <a:pt x="59" y="640"/>
                  <a:pt x="27" y="768"/>
                  <a:pt x="27" y="768"/>
                </a:cubicBezTo>
                <a:cubicBezTo>
                  <a:pt x="10" y="936"/>
                  <a:pt x="0" y="1007"/>
                  <a:pt x="27" y="1216"/>
                </a:cubicBezTo>
                <a:cubicBezTo>
                  <a:pt x="29" y="1232"/>
                  <a:pt x="110" y="1406"/>
                  <a:pt x="115" y="1416"/>
                </a:cubicBezTo>
                <a:cubicBezTo>
                  <a:pt x="187" y="1551"/>
                  <a:pt x="361" y="1589"/>
                  <a:pt x="483" y="1656"/>
                </a:cubicBezTo>
                <a:cubicBezTo>
                  <a:pt x="559" y="1697"/>
                  <a:pt x="640" y="1745"/>
                  <a:pt x="723" y="1776"/>
                </a:cubicBezTo>
                <a:cubicBezTo>
                  <a:pt x="769" y="1793"/>
                  <a:pt x="819" y="1800"/>
                  <a:pt x="867" y="1816"/>
                </a:cubicBezTo>
                <a:cubicBezTo>
                  <a:pt x="933" y="1838"/>
                  <a:pt x="997" y="1872"/>
                  <a:pt x="1067" y="1880"/>
                </a:cubicBezTo>
                <a:cubicBezTo>
                  <a:pt x="1133" y="1887"/>
                  <a:pt x="1200" y="1889"/>
                  <a:pt x="1267" y="1896"/>
                </a:cubicBezTo>
                <a:cubicBezTo>
                  <a:pt x="1304" y="1891"/>
                  <a:pt x="1409" y="1886"/>
                  <a:pt x="1459" y="1864"/>
                </a:cubicBezTo>
                <a:cubicBezTo>
                  <a:pt x="1569" y="1813"/>
                  <a:pt x="1614" y="1653"/>
                  <a:pt x="1651" y="1552"/>
                </a:cubicBezTo>
                <a:cubicBezTo>
                  <a:pt x="1664" y="1432"/>
                  <a:pt x="1650" y="1334"/>
                  <a:pt x="1611" y="1224"/>
                </a:cubicBezTo>
                <a:cubicBezTo>
                  <a:pt x="1583" y="1147"/>
                  <a:pt x="1572" y="1022"/>
                  <a:pt x="1491" y="976"/>
                </a:cubicBezTo>
                <a:cubicBezTo>
                  <a:pt x="1465" y="961"/>
                  <a:pt x="1423" y="951"/>
                  <a:pt x="1395" y="944"/>
                </a:cubicBezTo>
                <a:cubicBezTo>
                  <a:pt x="1320" y="953"/>
                  <a:pt x="1332" y="959"/>
                  <a:pt x="1275" y="984"/>
                </a:cubicBezTo>
                <a:cubicBezTo>
                  <a:pt x="1251" y="993"/>
                  <a:pt x="1227" y="1001"/>
                  <a:pt x="1203" y="1008"/>
                </a:cubicBezTo>
                <a:cubicBezTo>
                  <a:pt x="1192" y="1010"/>
                  <a:pt x="1181" y="1012"/>
                  <a:pt x="1171" y="1016"/>
                </a:cubicBezTo>
                <a:cubicBezTo>
                  <a:pt x="1159" y="1020"/>
                  <a:pt x="1150" y="1027"/>
                  <a:pt x="1139" y="1032"/>
                </a:cubicBezTo>
                <a:cubicBezTo>
                  <a:pt x="1115" y="1041"/>
                  <a:pt x="1067" y="1056"/>
                  <a:pt x="1067" y="1056"/>
                </a:cubicBezTo>
                <a:cubicBezTo>
                  <a:pt x="957" y="1048"/>
                  <a:pt x="876" y="1037"/>
                  <a:pt x="763" y="1032"/>
                </a:cubicBezTo>
                <a:cubicBezTo>
                  <a:pt x="697" y="1021"/>
                  <a:pt x="629" y="998"/>
                  <a:pt x="587" y="944"/>
                </a:cubicBezTo>
                <a:cubicBezTo>
                  <a:pt x="564" y="915"/>
                  <a:pt x="523" y="856"/>
                  <a:pt x="523" y="856"/>
                </a:cubicBezTo>
                <a:cubicBezTo>
                  <a:pt x="517" y="834"/>
                  <a:pt x="504" y="813"/>
                  <a:pt x="507" y="792"/>
                </a:cubicBezTo>
                <a:cubicBezTo>
                  <a:pt x="516" y="725"/>
                  <a:pt x="505" y="650"/>
                  <a:pt x="539" y="592"/>
                </a:cubicBezTo>
                <a:cubicBezTo>
                  <a:pt x="611" y="465"/>
                  <a:pt x="849" y="485"/>
                  <a:pt x="963" y="480"/>
                </a:cubicBezTo>
                <a:cubicBezTo>
                  <a:pt x="1016" y="482"/>
                  <a:pt x="1070" y="479"/>
                  <a:pt x="1123" y="488"/>
                </a:cubicBezTo>
                <a:cubicBezTo>
                  <a:pt x="1140" y="490"/>
                  <a:pt x="1154" y="505"/>
                  <a:pt x="1171" y="512"/>
                </a:cubicBezTo>
                <a:cubicBezTo>
                  <a:pt x="1189" y="518"/>
                  <a:pt x="1208" y="521"/>
                  <a:pt x="1227" y="528"/>
                </a:cubicBezTo>
                <a:cubicBezTo>
                  <a:pt x="1281" y="547"/>
                  <a:pt x="1237" y="539"/>
                  <a:pt x="1291" y="568"/>
                </a:cubicBezTo>
                <a:cubicBezTo>
                  <a:pt x="1343" y="596"/>
                  <a:pt x="1401" y="625"/>
                  <a:pt x="1459" y="640"/>
                </a:cubicBezTo>
                <a:cubicBezTo>
                  <a:pt x="1523" y="632"/>
                  <a:pt x="1557" y="633"/>
                  <a:pt x="1579" y="568"/>
                </a:cubicBezTo>
                <a:cubicBezTo>
                  <a:pt x="1570" y="474"/>
                  <a:pt x="1597" y="466"/>
                  <a:pt x="1555" y="48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58120" y="3487680"/>
            <a:ext cx="1789560" cy="1127160"/>
            <a:chOff x="258120" y="3487680"/>
            <a:chExt cx="1789560" cy="1127160"/>
          </a:xfrm>
        </p:grpSpPr>
        <p:sp>
          <p:nvSpPr>
            <p:cNvPr id="87" name=""/>
            <p:cNvSpPr/>
            <p:nvPr/>
          </p:nvSpPr>
          <p:spPr>
            <a:xfrm rot="1101000">
              <a:off x="315000" y="3735360"/>
              <a:ext cx="167580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101000">
              <a:off x="410760" y="3768840"/>
              <a:ext cx="131292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447920" y="44956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6680" y="5631120"/>
            <a:ext cx="338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oma nucleare arca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otoeu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7524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280" y="1114920"/>
            <a:ext cx="43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oma mitocond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caico nella cellula procario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43200" y="3048120"/>
            <a:ext cx="2209680" cy="685800"/>
            <a:chOff x="2743200" y="3048120"/>
            <a:chExt cx="2209680" cy="685800"/>
          </a:xfrm>
        </p:grpSpPr>
        <p:sp>
          <p:nvSpPr>
            <p:cNvPr id="94" name=""/>
            <p:cNvSpPr/>
            <p:nvPr/>
          </p:nvSpPr>
          <p:spPr>
            <a:xfrm>
              <a:off x="2743200" y="3048120"/>
              <a:ext cx="2209680" cy="685800"/>
            </a:xfrm>
            <a:prstGeom prst="rightArrow">
              <a:avLst>
                <a:gd name="adj1" fmla="val 50000"/>
                <a:gd name="adj2" fmla="val 80551"/>
              </a:avLst>
            </a:prstGeom>
            <a:gradFill rotWithShape="0">
              <a:gsLst>
                <a:gs pos="0">
                  <a:srgbClr val="750204"/>
                </a:gs>
                <a:gs pos="100000">
                  <a:srgbClr val="fe060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21480" y="320652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ndocito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97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760" y="609120"/>
            <a:ext cx="512604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Genesi del mitocond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282000">
            <a:off x="6095520" y="2914560"/>
            <a:ext cx="457200" cy="7239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2920 h 723960"/>
              <a:gd name="textAreaBottom" fmla="*/ 50868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35" stAng="-5400000" swAng="-5400000"/>
                <a:lnTo>
                  <a:pt x="0" y="10905"/>
                </a:lnTo>
                <a:arcTo wR="21600" hR="8535" stAng="10800000" swAng="-2890751"/>
                <a:lnTo>
                  <a:pt x="14400" y="21112"/>
                </a:lnTo>
                <a:lnTo>
                  <a:pt x="21600" y="18255"/>
                </a:lnTo>
                <a:lnTo>
                  <a:pt x="14400" y="14422"/>
                </a:lnTo>
                <a:lnTo>
                  <a:pt x="14400" y="16582"/>
                </a:lnTo>
                <a:arcTo wR="21600" hR="8535" stAng="7909249" swAng="2700502"/>
                <a:lnTo>
                  <a:pt x="209" y="9720"/>
                </a:lnTo>
                <a:arcTo wR="21600" hR="8535" stAng="-10609751" swAng="5209751"/>
                <a:close/>
              </a:path>
              <a:path fill="darkenLess" w="21600" h="21600">
                <a:moveTo>
                  <a:pt x="21600" y="0"/>
                </a:moveTo>
                <a:arcTo wR="21600" hR="8535" stAng="-5400000" swAng="-5400000"/>
                <a:lnTo>
                  <a:pt x="0" y="8535"/>
                </a:lnTo>
                <a:arcTo wR="21600" hR="8535" stAng="10800000" swAng="-190249"/>
                <a:lnTo>
                  <a:pt x="209" y="9720"/>
                </a:lnTo>
                <a:arcTo wR="21600" hR="8535" stAng="-10609751" swAng="5209751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4038480"/>
            <a:ext cx="1828800" cy="1295640"/>
          </a:xfrm>
          <a:prstGeom prst="downArrowCallout">
            <a:avLst>
              <a:gd name="adj1" fmla="val 22168"/>
              <a:gd name="adj2" fmla="val 14024"/>
              <a:gd name="adj3" fmla="val 11162"/>
              <a:gd name="adj4" fmla="val 66667"/>
            </a:avLst>
          </a:prstGeom>
          <a:gradFill rotWithShape="0">
            <a:gsLst>
              <a:gs pos="0">
                <a:srgbClr val="fe0609"/>
              </a:gs>
              <a:gs pos="100000">
                <a:srgbClr val="75020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i 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162920" y="5410080"/>
            <a:ext cx="2514600" cy="1676520"/>
            <a:chOff x="7162920" y="5410080"/>
            <a:chExt cx="2514600" cy="1676520"/>
          </a:xfrm>
        </p:grpSpPr>
        <p:sp>
          <p:nvSpPr>
            <p:cNvPr id="106" name=""/>
            <p:cNvSpPr/>
            <p:nvPr/>
          </p:nvSpPr>
          <p:spPr>
            <a:xfrm>
              <a:off x="7162920" y="5410080"/>
              <a:ext cx="2514600" cy="1676520"/>
            </a:xfrm>
            <a:prstGeom prst="roundRect">
              <a:avLst>
                <a:gd name="adj" fmla="val 2272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1880" y="5486400"/>
              <a:ext cx="1143000" cy="6350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30000">
              <a:off x="8763120" y="5675040"/>
              <a:ext cx="457200" cy="3124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30000">
              <a:off x="8791560" y="5702400"/>
              <a:ext cx="358920" cy="31572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1596400">
              <a:off x="7237080" y="6237000"/>
              <a:ext cx="236232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9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1596400">
              <a:off x="7395840" y="6296040"/>
              <a:ext cx="185112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48840" y="6342120"/>
              <a:ext cx="220320" cy="1364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0" y="0"/>
                  </a:moveTo>
                  <a:cubicBezTo>
                    <a:pt x="3" y="5"/>
                    <a:pt x="5" y="12"/>
                    <a:pt x="11" y="16"/>
                  </a:cubicBezTo>
                  <a:cubicBezTo>
                    <a:pt x="20" y="21"/>
                    <a:pt x="43" y="26"/>
                    <a:pt x="43" y="26"/>
                  </a:cubicBezTo>
                  <a:cubicBezTo>
                    <a:pt x="55" y="44"/>
                    <a:pt x="67" y="46"/>
                    <a:pt x="86" y="58"/>
                  </a:cubicBezTo>
                  <a:cubicBezTo>
                    <a:pt x="94" y="86"/>
                    <a:pt x="110" y="80"/>
                    <a:pt x="139" y="8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4478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re duplicazioni dell’intero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680256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genoma nucle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1419480"/>
            <a:ext cx="9601200" cy="1247400"/>
            <a:chOff x="0" y="1419480"/>
            <a:chExt cx="9601200" cy="1247400"/>
          </a:xfrm>
        </p:grpSpPr>
        <p:sp>
          <p:nvSpPr>
            <p:cNvPr id="122" name=""/>
            <p:cNvSpPr/>
            <p:nvPr/>
          </p:nvSpPr>
          <p:spPr>
            <a:xfrm>
              <a:off x="762120" y="1419480"/>
              <a:ext cx="883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’ derivato dalla mescolanza di geni Archea (trasferimento informazione) ed eubetterici ( metabolismo ed altre funzioni cellulari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77004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 rot="5400000">
            <a:off x="4476240" y="2647800"/>
            <a:ext cx="1067040" cy="64764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54684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quenti eventi di duplicazioni subgenomi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duplicazione di geni ed es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duplicazione DNA non codif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765960"/>
            <a:ext cx="83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mento delle dimensioni del gen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676520" y="2133720"/>
            <a:ext cx="6583320" cy="3643200"/>
            <a:chOff x="1676520" y="2133720"/>
            <a:chExt cx="6583320" cy="3643200"/>
          </a:xfrm>
        </p:grpSpPr>
        <p:sp>
          <p:nvSpPr>
            <p:cNvPr id="128" name=""/>
            <p:cNvSpPr/>
            <p:nvPr/>
          </p:nvSpPr>
          <p:spPr>
            <a:xfrm>
              <a:off x="6613560" y="5086440"/>
              <a:ext cx="164628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68720" y="5086440"/>
              <a:ext cx="164484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2920" y="5086440"/>
              <a:ext cx="158580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6520" y="5086440"/>
              <a:ext cx="170640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% DNA CODIFIC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13560" y="4672080"/>
              <a:ext cx="164628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80 000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720" y="4672080"/>
              <a:ext cx="164484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0 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2920" y="4672080"/>
              <a:ext cx="158580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6 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520" y="4672080"/>
              <a:ext cx="170640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UMERO GE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13560" y="3795840"/>
              <a:ext cx="164628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 000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68720" y="3795840"/>
              <a:ext cx="164484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00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82920" y="3795840"/>
              <a:ext cx="158580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4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6520" y="3795840"/>
              <a:ext cx="170640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IMENSIONI GEN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3560" y="2895480"/>
              <a:ext cx="164628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68720" y="2895480"/>
              <a:ext cx="164484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82920" y="2895480"/>
              <a:ext cx="158580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895480"/>
              <a:ext cx="170640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UMERO DI CELL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3560" y="2133720"/>
              <a:ext cx="16462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O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68720" y="2133720"/>
              <a:ext cx="16448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.ELEG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82920" y="2133720"/>
              <a:ext cx="1585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LIEV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(S.CEREVISIA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2133720"/>
              <a:ext cx="17064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ARAMET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2133720"/>
              <a:ext cx="658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6520" y="2895480"/>
              <a:ext cx="658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379584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467208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520" y="508644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5776920"/>
              <a:ext cx="658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2133720"/>
              <a:ext cx="0" cy="364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8292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6872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1356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59840" y="2133720"/>
              <a:ext cx="0" cy="364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6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Genomi a 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6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680256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genoma nucle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1447920"/>
            <a:ext cx="9601200" cy="1218960"/>
            <a:chOff x="0" y="1447920"/>
            <a:chExt cx="9601200" cy="1218960"/>
          </a:xfrm>
        </p:grpSpPr>
        <p:sp>
          <p:nvSpPr>
            <p:cNvPr id="174" name=""/>
            <p:cNvSpPr/>
            <p:nvPr/>
          </p:nvSpPr>
          <p:spPr>
            <a:xfrm>
              <a:off x="762120" y="1602360"/>
              <a:ext cx="88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’ derivato dalla mescolanza di geni Archea (trasferimento informazione) ed eubetterici ( metabolismo ed altre funzioni cellulari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77004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 rot="5400000">
            <a:off x="4514760" y="2609640"/>
            <a:ext cx="685800" cy="342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19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re duplicazioni dell’intero ge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04604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equenti eventi di duplicazioni subgenomich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duplicazione di geni ed es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duplicazione DNA non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322164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mento delle dimensioni del ge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5635440"/>
            <a:ext cx="9294840" cy="1191240"/>
            <a:chOff x="304920" y="5635440"/>
            <a:chExt cx="9294840" cy="1191240"/>
          </a:xfrm>
        </p:grpSpPr>
        <p:sp>
          <p:nvSpPr>
            <p:cNvPr id="181" name=""/>
            <p:cNvSpPr/>
            <p:nvPr/>
          </p:nvSpPr>
          <p:spPr>
            <a:xfrm>
              <a:off x="1066680" y="5635440"/>
              <a:ext cx="853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 QUALI SONO GLI EFFETTI DI QUESTE DUPLICAZION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 SONO ASSOCIATE A SBILANCIO GENIC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304920" y="5638680"/>
              <a:ext cx="114300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10080" y="685440"/>
            <a:ext cx="276408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80880" y="1828800"/>
            <a:ext cx="92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464832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5257800"/>
            <a:ext cx="838080" cy="2286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5257800"/>
            <a:ext cx="838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4952880"/>
            <a:ext cx="8380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5791320"/>
            <a:ext cx="83808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0360" y="41911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4572000"/>
            <a:ext cx="685800" cy="30492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64400" y="3505320"/>
            <a:ext cx="123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90512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4724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53880" y="43434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577840" y="5013720"/>
            <a:ext cx="1182600" cy="29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77840" y="5507280"/>
            <a:ext cx="1182600" cy="29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48680" y="45021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9240" y="39625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99360" y="39625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99360" y="476100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83920" y="480060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02560" y="564048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55627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2440" y="3733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65920" y="48769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9120" y="47800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95440" y="5237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486400" y="346716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VERSIFICAZIONE DEI GENI E DEI CROM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48600" y="6582960"/>
            <a:ext cx="203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TRA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09400" y="658296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3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92199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del genoma e tetraploid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0560" y="481788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4280" y="427968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8600" y="2590920"/>
            <a:ext cx="768240" cy="1750320"/>
            <a:chOff x="228600" y="2590920"/>
            <a:chExt cx="768240" cy="1750320"/>
          </a:xfrm>
        </p:grpSpPr>
        <p:grpSp>
          <p:nvGrpSpPr>
            <p:cNvPr id="240" name=""/>
            <p:cNvGrpSpPr/>
            <p:nvPr/>
          </p:nvGrpSpPr>
          <p:grpSpPr>
            <a:xfrm>
              <a:off x="228600" y="2601720"/>
              <a:ext cx="307440" cy="1739520"/>
              <a:chOff x="228600" y="2601720"/>
              <a:chExt cx="307440" cy="1739520"/>
            </a:xfrm>
          </p:grpSpPr>
          <p:sp>
            <p:nvSpPr>
              <p:cNvPr id="241" name=""/>
              <p:cNvSpPr/>
              <p:nvPr/>
            </p:nvSpPr>
            <p:spPr>
              <a:xfrm>
                <a:off x="228600" y="339660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6480" y="32925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8600" y="26017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89040" y="2590920"/>
              <a:ext cx="307440" cy="1739520"/>
              <a:chOff x="689040" y="2590920"/>
              <a:chExt cx="307440" cy="1739520"/>
            </a:xfrm>
          </p:grpSpPr>
          <p:sp>
            <p:nvSpPr>
              <p:cNvPr id="245" name=""/>
              <p:cNvSpPr/>
              <p:nvPr/>
            </p:nvSpPr>
            <p:spPr>
              <a:xfrm>
                <a:off x="689040" y="338616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6920" y="32817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9040" y="25909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28600" y="2884320"/>
              <a:ext cx="768240" cy="76320"/>
              <a:chOff x="228600" y="2884320"/>
              <a:chExt cx="768240" cy="76320"/>
            </a:xfrm>
          </p:grpSpPr>
          <p:sp>
            <p:nvSpPr>
              <p:cNvPr id="249" name=""/>
              <p:cNvSpPr/>
              <p:nvPr/>
            </p:nvSpPr>
            <p:spPr>
              <a:xfrm>
                <a:off x="228600" y="2884320"/>
                <a:ext cx="30492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2280" y="2884320"/>
                <a:ext cx="304560" cy="76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8600" y="3875040"/>
              <a:ext cx="30492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2280" y="3875040"/>
              <a:ext cx="30456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4027320"/>
              <a:ext cx="30492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2280" y="4027320"/>
              <a:ext cx="304560" cy="7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964080" y="2761920"/>
            <a:ext cx="351360" cy="1559160"/>
            <a:chOff x="964080" y="2761920"/>
            <a:chExt cx="351360" cy="1559160"/>
          </a:xfrm>
        </p:grpSpPr>
        <p:sp>
          <p:nvSpPr>
            <p:cNvPr id="256" name=""/>
            <p:cNvSpPr/>
            <p:nvPr/>
          </p:nvSpPr>
          <p:spPr>
            <a:xfrm>
              <a:off x="971640" y="27619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64080" y="36046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65520" y="3922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62240" y="1199880"/>
            <a:ext cx="1182600" cy="4895280"/>
            <a:chOff x="4062240" y="1199880"/>
            <a:chExt cx="1182600" cy="4895280"/>
          </a:xfrm>
        </p:grpSpPr>
        <p:sp>
          <p:nvSpPr>
            <p:cNvPr id="260" name=""/>
            <p:cNvSpPr/>
            <p:nvPr/>
          </p:nvSpPr>
          <p:spPr>
            <a:xfrm>
              <a:off x="4062240" y="119988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2240" y="403200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1523880"/>
              <a:ext cx="768240" cy="1750320"/>
              <a:chOff x="4191120" y="1523880"/>
              <a:chExt cx="768240" cy="175032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4191120" y="1534680"/>
                <a:ext cx="307440" cy="1739520"/>
                <a:chOff x="4191120" y="1534680"/>
                <a:chExt cx="307440" cy="17395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191120" y="232956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239000" y="22255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191120" y="15346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651560" y="1523880"/>
                <a:ext cx="307440" cy="1739520"/>
                <a:chOff x="4651560" y="1523880"/>
                <a:chExt cx="307440" cy="1739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65156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69944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65156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191120" y="1817280"/>
                <a:ext cx="768240" cy="76320"/>
                <a:chOff x="4191120" y="1817280"/>
                <a:chExt cx="768240" cy="763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191120" y="1817280"/>
                  <a:ext cx="304920" cy="763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54800" y="1817280"/>
                  <a:ext cx="304560" cy="7632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4191120" y="2808000"/>
                <a:ext cx="304920" cy="763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54800" y="2808000"/>
                <a:ext cx="304560" cy="76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91120" y="2960280"/>
                <a:ext cx="304920" cy="76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54800" y="2960280"/>
                <a:ext cx="304560" cy="763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203720" y="4344840"/>
              <a:ext cx="768240" cy="1750320"/>
              <a:chOff x="4203720" y="4344840"/>
              <a:chExt cx="768240" cy="175032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203720" y="4355640"/>
                <a:ext cx="307440" cy="1739520"/>
                <a:chOff x="4203720" y="4355640"/>
                <a:chExt cx="307440" cy="1739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203720" y="51505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251600" y="50464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203720" y="43556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664160" y="4344840"/>
                <a:ext cx="307440" cy="1739520"/>
                <a:chOff x="4664160" y="4344840"/>
                <a:chExt cx="307440" cy="17395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4664160" y="514008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12040" y="50356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64160" y="43448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203720" y="4638240"/>
                <a:ext cx="768240" cy="76320"/>
                <a:chOff x="4203720" y="4638240"/>
                <a:chExt cx="768240" cy="763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203720" y="4638240"/>
                  <a:ext cx="304920" cy="7632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667400" y="4638240"/>
                  <a:ext cx="304560" cy="7632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4203720" y="5628960"/>
                <a:ext cx="304920" cy="763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67400" y="5628960"/>
                <a:ext cx="30456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03720" y="5781240"/>
                <a:ext cx="304920" cy="76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67400" y="5781240"/>
                <a:ext cx="30456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93120" y="1693440"/>
              <a:ext cx="351720" cy="1559160"/>
              <a:chOff x="4893120" y="1693440"/>
              <a:chExt cx="351720" cy="1559160"/>
            </a:xfrm>
          </p:grpSpPr>
          <p:sp>
            <p:nvSpPr>
              <p:cNvPr id="295" name=""/>
              <p:cNvSpPr/>
              <p:nvPr/>
            </p:nvSpPr>
            <p:spPr>
              <a:xfrm>
                <a:off x="4901040" y="16934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93120" y="2536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94560" y="2853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893120" y="4519080"/>
              <a:ext cx="351720" cy="1559160"/>
              <a:chOff x="4893120" y="4519080"/>
              <a:chExt cx="351720" cy="1559160"/>
            </a:xfrm>
          </p:grpSpPr>
          <p:sp>
            <p:nvSpPr>
              <p:cNvPr id="299" name=""/>
              <p:cNvSpPr/>
              <p:nvPr/>
            </p:nvSpPr>
            <p:spPr>
              <a:xfrm>
                <a:off x="4901040" y="45190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93120" y="53618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94560" y="5679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6061320" y="4344840"/>
            <a:ext cx="1334160" cy="2097360"/>
            <a:chOff x="6061320" y="4344840"/>
            <a:chExt cx="1334160" cy="2097360"/>
          </a:xfrm>
        </p:grpSpPr>
        <p:sp>
          <p:nvSpPr>
            <p:cNvPr id="303" name=""/>
            <p:cNvSpPr/>
            <p:nvPr/>
          </p:nvSpPr>
          <p:spPr>
            <a:xfrm>
              <a:off x="6061320" y="60433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65720" y="4356000"/>
              <a:ext cx="307800" cy="1739520"/>
              <a:chOff x="6165720" y="4356000"/>
              <a:chExt cx="307800" cy="1739520"/>
            </a:xfrm>
          </p:grpSpPr>
          <p:sp>
            <p:nvSpPr>
              <p:cNvPr id="305" name=""/>
              <p:cNvSpPr/>
              <p:nvPr/>
            </p:nvSpPr>
            <p:spPr>
              <a:xfrm>
                <a:off x="6165720" y="5150880"/>
                <a:ext cx="30780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13600" y="504684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65720" y="435600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626160" y="4344840"/>
              <a:ext cx="307800" cy="1739520"/>
              <a:chOff x="6626160" y="4344840"/>
              <a:chExt cx="307800" cy="1739520"/>
            </a:xfrm>
          </p:grpSpPr>
          <p:sp>
            <p:nvSpPr>
              <p:cNvPr id="309" name=""/>
              <p:cNvSpPr/>
              <p:nvPr/>
            </p:nvSpPr>
            <p:spPr>
              <a:xfrm>
                <a:off x="6626160" y="5140080"/>
                <a:ext cx="30780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674040" y="503568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26160" y="434484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165720" y="4638600"/>
              <a:ext cx="768240" cy="76320"/>
              <a:chOff x="6165720" y="4638600"/>
              <a:chExt cx="768240" cy="76320"/>
            </a:xfrm>
          </p:grpSpPr>
          <p:sp>
            <p:nvSpPr>
              <p:cNvPr id="313" name=""/>
              <p:cNvSpPr/>
              <p:nvPr/>
            </p:nvSpPr>
            <p:spPr>
              <a:xfrm>
                <a:off x="6165720" y="4638600"/>
                <a:ext cx="30492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29400" y="4638600"/>
                <a:ext cx="304560" cy="763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165720" y="5629320"/>
              <a:ext cx="30492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9400" y="5629320"/>
              <a:ext cx="304920" cy="76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65720" y="5781600"/>
              <a:ext cx="304920" cy="763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29400" y="5781600"/>
              <a:ext cx="304920" cy="763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88600" y="45190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68800" y="5362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95520" y="567972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183520" y="1650960"/>
            <a:ext cx="1258560" cy="1649160"/>
            <a:chOff x="8183520" y="1650960"/>
            <a:chExt cx="1258560" cy="1649160"/>
          </a:xfrm>
        </p:grpSpPr>
        <p:grpSp>
          <p:nvGrpSpPr>
            <p:cNvPr id="323" name=""/>
            <p:cNvGrpSpPr/>
            <p:nvPr/>
          </p:nvGrpSpPr>
          <p:grpSpPr>
            <a:xfrm>
              <a:off x="8183520" y="1650960"/>
              <a:ext cx="1037880" cy="1649160"/>
              <a:chOff x="8183520" y="1650960"/>
              <a:chExt cx="1037880" cy="1649160"/>
            </a:xfrm>
          </p:grpSpPr>
          <p:sp>
            <p:nvSpPr>
              <p:cNvPr id="324" name=""/>
              <p:cNvSpPr/>
              <p:nvPr/>
            </p:nvSpPr>
            <p:spPr>
              <a:xfrm>
                <a:off x="8183520" y="2355480"/>
                <a:ext cx="30816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43960" y="2344680"/>
                <a:ext cx="30816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183520" y="180468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43960" y="179352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8183520" y="2087280"/>
                <a:ext cx="768240" cy="76320"/>
                <a:chOff x="8183520" y="2087280"/>
                <a:chExt cx="768240" cy="763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8183520" y="2087280"/>
                  <a:ext cx="304920" cy="7632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647200" y="2087280"/>
                  <a:ext cx="304560" cy="76320"/>
                </a:xfrm>
                <a:prstGeom prst="rect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183520" y="2833560"/>
                <a:ext cx="304920" cy="7596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647200" y="2833560"/>
                <a:ext cx="304920" cy="759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183520" y="2985840"/>
                <a:ext cx="304920" cy="76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647200" y="2985840"/>
                <a:ext cx="304920" cy="76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8231400" y="1650960"/>
                <a:ext cx="688680" cy="206280"/>
                <a:chOff x="8231400" y="1650960"/>
                <a:chExt cx="688680" cy="2062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231400" y="1661760"/>
                  <a:ext cx="228600" cy="19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691480" y="1650960"/>
                  <a:ext cx="228600" cy="19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8874720" y="25678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876160" y="2885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8910720" y="1827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988240" y="1152000"/>
            <a:ext cx="1396440" cy="2122560"/>
            <a:chOff x="5988240" y="1152000"/>
            <a:chExt cx="1396440" cy="2122560"/>
          </a:xfrm>
        </p:grpSpPr>
        <p:sp>
          <p:nvSpPr>
            <p:cNvPr id="342" name=""/>
            <p:cNvSpPr/>
            <p:nvPr/>
          </p:nvSpPr>
          <p:spPr>
            <a:xfrm>
              <a:off x="5988240" y="11520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6122880" y="1523880"/>
              <a:ext cx="1261800" cy="1750680"/>
              <a:chOff x="6122880" y="1523880"/>
              <a:chExt cx="1261800" cy="1750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853320" y="1558440"/>
                <a:ext cx="53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83920" y="2542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85000" y="2860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6122880" y="1535040"/>
                <a:ext cx="307440" cy="1739520"/>
                <a:chOff x="6122880" y="1535040"/>
                <a:chExt cx="307440" cy="17395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122880" y="23299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170760" y="22258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122880" y="15350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583320" y="1523880"/>
                <a:ext cx="307440" cy="1739520"/>
                <a:chOff x="6583320" y="1523880"/>
                <a:chExt cx="307440" cy="17395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58332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3120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8332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6122880" y="2808360"/>
                <a:ext cx="304920" cy="759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86560" y="2808360"/>
                <a:ext cx="304560" cy="7596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22880" y="2960640"/>
                <a:ext cx="304920" cy="76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86560" y="2960640"/>
                <a:ext cx="304560" cy="7632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122880" y="1828800"/>
                <a:ext cx="768240" cy="76320"/>
                <a:chOff x="6122880" y="1828800"/>
                <a:chExt cx="768240" cy="763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122880" y="1828800"/>
                  <a:ext cx="304920" cy="76320"/>
                </a:xfrm>
                <a:prstGeom prst="rect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586560" y="1828800"/>
                  <a:ext cx="304560" cy="76320"/>
                </a:xfrm>
                <a:prstGeom prst="rect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2" name=""/>
          <p:cNvGrpSpPr/>
          <p:nvPr/>
        </p:nvGrpSpPr>
        <p:grpSpPr>
          <a:xfrm>
            <a:off x="8042400" y="4343400"/>
            <a:ext cx="1334160" cy="2097000"/>
            <a:chOff x="8042400" y="4343400"/>
            <a:chExt cx="1334160" cy="2097000"/>
          </a:xfrm>
        </p:grpSpPr>
        <p:sp>
          <p:nvSpPr>
            <p:cNvPr id="363" name=""/>
            <p:cNvSpPr/>
            <p:nvPr/>
          </p:nvSpPr>
          <p:spPr>
            <a:xfrm>
              <a:off x="8042400" y="6041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8147160" y="4354560"/>
              <a:ext cx="307440" cy="1739520"/>
              <a:chOff x="8147160" y="4354560"/>
              <a:chExt cx="307440" cy="1739520"/>
            </a:xfrm>
          </p:grpSpPr>
          <p:sp>
            <p:nvSpPr>
              <p:cNvPr id="365" name=""/>
              <p:cNvSpPr/>
              <p:nvPr/>
            </p:nvSpPr>
            <p:spPr>
              <a:xfrm>
                <a:off x="8147160" y="514944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195040" y="504540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147160" y="435456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8607600" y="4343400"/>
              <a:ext cx="307440" cy="1739520"/>
              <a:chOff x="8607600" y="4343400"/>
              <a:chExt cx="307440" cy="1739520"/>
            </a:xfrm>
          </p:grpSpPr>
          <p:sp>
            <p:nvSpPr>
              <p:cNvPr id="369" name=""/>
              <p:cNvSpPr/>
              <p:nvPr/>
            </p:nvSpPr>
            <p:spPr>
              <a:xfrm>
                <a:off x="8607600" y="513864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655480" y="503424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607600" y="434340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8147160" y="4637160"/>
              <a:ext cx="768240" cy="75960"/>
              <a:chOff x="8147160" y="4637160"/>
              <a:chExt cx="768240" cy="75960"/>
            </a:xfrm>
          </p:grpSpPr>
          <p:sp>
            <p:nvSpPr>
              <p:cNvPr id="373" name=""/>
              <p:cNvSpPr/>
              <p:nvPr/>
            </p:nvSpPr>
            <p:spPr>
              <a:xfrm>
                <a:off x="8147160" y="4637160"/>
                <a:ext cx="304920" cy="759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610840" y="4637160"/>
                <a:ext cx="304560" cy="7596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8147160" y="5627520"/>
              <a:ext cx="304560" cy="763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10480" y="5627520"/>
              <a:ext cx="304920" cy="7632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47160" y="5780160"/>
              <a:ext cx="304560" cy="759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10480" y="5780160"/>
              <a:ext cx="304920" cy="7596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869680" y="45176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849880" y="536076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160" y="5678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447920" y="2057400"/>
            <a:ext cx="2514600" cy="266688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36576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3-05-14T09:07:20Z</cp:lastPrinted>
  <dcterms:modified xsi:type="dcterms:W3CDTF">2004-04-25T21:41:14Z</dcterms:modified>
  <cp:revision>944</cp:revision>
  <dc:subject/>
  <dc:title>Geen diatitel</dc:title>
</cp:coreProperties>
</file>